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FE91-2429-4097-9F99-5BCCCB3564F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A867-C1D3-429F-8BF2-4C6E6E7DCA6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DBDC-7DB6-4B40-B716-925744B2884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AA1E-75F3-4FE3-B22F-F86DC73E651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6DCB-C9A7-4CB1-AA04-6524E626F65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F5AA-0FDF-43B0-B9B9-AA101FB8245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51ED-91C2-4919-B4B1-87F9D04247F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A5E2-6390-41CC-AF95-D0ACEC51F4B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180E-F1FF-44B7-8524-A0DC2057CE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4A9D-DA87-495E-B5A3-B68F768606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A957-6FAF-4D5F-981C-B1CD23C27EE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AA0F-B8FE-47F3-B1B7-6F951ADCC68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7DB0-CC34-403B-977F-AC85DA6E8AE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A4AB-88E4-4B66-B0B8-9F44FB2693A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F41C-6068-43F5-A64C-587DCF35E5E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725F-E724-4DFA-8666-7D87047879A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8"/>
          <p:cNvSpPr/>
          <p:nvPr/>
        </p:nvSpPr>
        <p:spPr>
          <a:xfrm>
            <a:off x="3881520" y="868680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0600"/>
                <a:tab algn="l" pos="784080"/>
                <a:tab algn="l" pos="1177920"/>
                <a:tab algn="l" pos="1571760"/>
                <a:tab algn="l" pos="1965240"/>
                <a:tab algn="l" pos="235908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34280"/>
                <a:tab algn="l" pos="8626320"/>
                <a:tab algn="l" pos="9018720"/>
                <a:tab algn="l" pos="9410760"/>
                <a:tab algn="l" pos="9802800"/>
                <a:tab algn="l" pos="10194840"/>
                <a:tab algn="l" pos="10586880"/>
              </a:tabLst>
            </a:pPr>
            <a:fld id="{98EEC60E-1D2D-4099-9EC9-4813304180C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"/>
          <p:cNvSpPr/>
          <p:nvPr/>
        </p:nvSpPr>
        <p:spPr>
          <a:xfrm>
            <a:off x="2143080" y="695160"/>
            <a:ext cx="25732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686880" y="4343400"/>
            <a:ext cx="5480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8"/>
          <p:cNvSpPr/>
          <p:nvPr/>
        </p:nvSpPr>
        <p:spPr>
          <a:xfrm>
            <a:off x="3881520" y="868680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0600"/>
                <a:tab algn="l" pos="784080"/>
                <a:tab algn="l" pos="1177920"/>
                <a:tab algn="l" pos="1571760"/>
                <a:tab algn="l" pos="1965240"/>
                <a:tab algn="l" pos="235908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34280"/>
                <a:tab algn="l" pos="8626320"/>
                <a:tab algn="l" pos="9018720"/>
                <a:tab algn="l" pos="9410760"/>
                <a:tab algn="l" pos="9802800"/>
                <a:tab algn="l" pos="10194840"/>
                <a:tab algn="l" pos="10586880"/>
              </a:tabLst>
            </a:pPr>
            <a:fld id="{04989DA2-4AD8-4044-B5A8-406A75F1AF8D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"/>
          <p:cNvSpPr/>
          <p:nvPr/>
        </p:nvSpPr>
        <p:spPr>
          <a:xfrm>
            <a:off x="2143080" y="695160"/>
            <a:ext cx="25732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686880" y="4343400"/>
            <a:ext cx="5480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8"/>
          <p:cNvSpPr/>
          <p:nvPr/>
        </p:nvSpPr>
        <p:spPr>
          <a:xfrm>
            <a:off x="3881520" y="868680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0600"/>
                <a:tab algn="l" pos="784080"/>
                <a:tab algn="l" pos="1177920"/>
                <a:tab algn="l" pos="1571760"/>
                <a:tab algn="l" pos="1965240"/>
                <a:tab algn="l" pos="235908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34280"/>
                <a:tab algn="l" pos="8626320"/>
                <a:tab algn="l" pos="9018720"/>
                <a:tab algn="l" pos="9410760"/>
                <a:tab algn="l" pos="9802800"/>
                <a:tab algn="l" pos="10194840"/>
                <a:tab algn="l" pos="10586880"/>
              </a:tabLst>
            </a:pPr>
            <a:fld id="{7C6F8759-7851-4627-89BB-235E701B557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07A3-E1B0-49AD-A63D-73BB721256B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D16D-2F92-4F8A-8804-6AFCB8D244E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93A4-82ED-4DED-8FBF-BD06C27755A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7F98-50F7-4D08-B56E-C2DD3B4BE99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B6C9-CE08-41BB-A144-C1E0A7A4340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CC29-513F-4E11-A9F7-D868DE3310E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5934-ED33-4821-82CA-5766925F7D1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D16A-F9E6-4EC9-B069-F533A36D0F8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388-D371-4759-B063-AB04F0C5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127-6876-4DF3-9E4E-51704ACA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B094-C63B-45C3-9078-15D54429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49F-4071-40F1-A617-706761E3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F1F-CA5C-4734-A650-EE2BEFCF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2FA-4921-4139-ADE5-85B876B1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D48-351E-4013-A97B-60442FE1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C1F-742F-4E77-9F67-AA894E96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258-6116-4014-BE52-59EBA096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399D-7BCC-435B-9AD9-CF56F1CC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E52-D3E3-47B7-89A5-B2C55D76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B50-0EC7-4B89-A169-94087D30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559A-8351-4A67-8744-92750C95B7F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emanuela.botta@invalsi.it" TargetMode="External"/><Relationship Id="rId2" Type="http://schemas.openxmlformats.org/officeDocument/2006/relationships/hyperlink" Target="mailto:stefania.pozio@invalsi.it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mailto:caterina.manco@gmail.com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02080"/>
            <a:ext cx="7772400" cy="20412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Calibri"/>
              </a:rPr>
              <a:t>IL CONTRIBUTO DELLA VALUTAZIONE ESTERNA AL MIGLIORAMENTO EDUCA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101080" y="103320"/>
            <a:ext cx="863640" cy="985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38240" y="115920"/>
            <a:ext cx="2712960" cy="108108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6080040" y="6093000"/>
            <a:ext cx="2349720" cy="6426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Calibri"/>
              </a:rPr>
              <a:t>Caterina M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Calibri"/>
              </a:rPr>
              <a:t>Valutatore INVAL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8960" y="178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Calibri"/>
                <a:ea typeface="ＭＳ Ｐゴシック"/>
              </a:rPr>
              <a:t>Distribuzione dei punteggi nelle prove Invalsi 2015  </a:t>
            </a:r>
            <a:br>
              <a:rPr sz="2400"/>
            </a:br>
            <a:r>
              <a:rPr b="1" lang="it-IT" sz="2400" spc="-1" strike="noStrike">
                <a:solidFill>
                  <a:srgbClr val="006699"/>
                </a:solidFill>
                <a:latin typeface="Calibri"/>
                <a:ea typeface="ＭＳ Ｐゴシック"/>
              </a:rPr>
              <a:t>Scuola primaria - 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0920" y="1450800"/>
            <a:ext cx="4249800" cy="4865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508640" y="1476360"/>
            <a:ext cx="4351320" cy="4824360"/>
          </a:xfrm>
          <a:prstGeom prst="rect">
            <a:avLst/>
          </a:prstGeom>
          <a:ln w="0">
            <a:noFill/>
          </a:ln>
        </p:spPr>
      </p:pic>
      <p:sp>
        <p:nvSpPr>
          <p:cNvPr id="99" name="Rettangolo 7"/>
          <p:cNvSpPr/>
          <p:nvPr/>
        </p:nvSpPr>
        <p:spPr>
          <a:xfrm>
            <a:off x="268200" y="3816360"/>
            <a:ext cx="8425080" cy="14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sellaDiTesto 8"/>
          <p:cNvSpPr/>
          <p:nvPr/>
        </p:nvSpPr>
        <p:spPr>
          <a:xfrm>
            <a:off x="857160" y="9619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TAL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9"/>
          <p:cNvSpPr/>
          <p:nvPr/>
        </p:nvSpPr>
        <p:spPr>
          <a:xfrm>
            <a:off x="5929200" y="95076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MATE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3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1000" y="2538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Calibri"/>
                <a:ea typeface="ＭＳ Ｐゴシック"/>
              </a:rPr>
              <a:t>Distribuzione dei punteggi nelle prove Invalsi 2015  </a:t>
            </a:r>
            <a:br>
              <a:rPr sz="2400"/>
            </a:br>
            <a:r>
              <a:rPr b="1" lang="it-IT" sz="2400" spc="-1" strike="noStrike">
                <a:solidFill>
                  <a:srgbClr val="006699"/>
                </a:solidFill>
                <a:latin typeface="Calibri"/>
                <a:ea typeface="ＭＳ Ｐゴシック"/>
              </a:rPr>
              <a:t>Secondaria di I gr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12760" y="1609560"/>
            <a:ext cx="4282920" cy="482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4552920" y="1633680"/>
            <a:ext cx="4264200" cy="4755960"/>
          </a:xfrm>
          <a:prstGeom prst="rect">
            <a:avLst/>
          </a:prstGeom>
          <a:ln w="0">
            <a:noFill/>
          </a:ln>
        </p:spPr>
      </p:pic>
      <p:sp>
        <p:nvSpPr>
          <p:cNvPr id="106" name="Rettangolo 7"/>
          <p:cNvSpPr/>
          <p:nvPr/>
        </p:nvSpPr>
        <p:spPr>
          <a:xfrm>
            <a:off x="222120" y="3971880"/>
            <a:ext cx="8425080" cy="14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sellaDiTesto 5"/>
          <p:cNvSpPr/>
          <p:nvPr/>
        </p:nvSpPr>
        <p:spPr>
          <a:xfrm>
            <a:off x="857160" y="10256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TAL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sellaDiTesto 6"/>
          <p:cNvSpPr/>
          <p:nvPr/>
        </p:nvSpPr>
        <p:spPr>
          <a:xfrm>
            <a:off x="5929200" y="10144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MATE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"/>
          <p:cNvPicPr/>
          <p:nvPr/>
        </p:nvPicPr>
        <p:blipFill>
          <a:blip r:embed="rId3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18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Calibri"/>
                <a:ea typeface="ＭＳ Ｐゴシック"/>
              </a:rPr>
              <a:t>Distribuzione dei punteggi nelle prove Invalsi 2015  </a:t>
            </a:r>
            <a:br>
              <a:rPr sz="2400"/>
            </a:br>
            <a:r>
              <a:rPr b="1" lang="it-IT" sz="2400" spc="-1" strike="noStrike">
                <a:solidFill>
                  <a:srgbClr val="006699"/>
                </a:solidFill>
                <a:latin typeface="Calibri"/>
                <a:ea typeface="ＭＳ Ｐゴシック"/>
              </a:rPr>
              <a:t>Scuola secondaria di II gr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9280" y="1494000"/>
            <a:ext cx="4305240" cy="496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575240" y="1494000"/>
            <a:ext cx="4368600" cy="4922640"/>
          </a:xfrm>
          <a:prstGeom prst="rect">
            <a:avLst/>
          </a:prstGeom>
          <a:ln w="0">
            <a:noFill/>
          </a:ln>
        </p:spPr>
      </p:pic>
      <p:sp>
        <p:nvSpPr>
          <p:cNvPr id="113" name="Rettangolo 7"/>
          <p:cNvSpPr/>
          <p:nvPr/>
        </p:nvSpPr>
        <p:spPr>
          <a:xfrm>
            <a:off x="212760" y="3905280"/>
            <a:ext cx="8424720" cy="14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sellaDiTesto 8"/>
          <p:cNvSpPr/>
          <p:nvPr/>
        </p:nvSpPr>
        <p:spPr>
          <a:xfrm>
            <a:off x="-101520" y="6497640"/>
            <a:ext cx="672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* La partecipazione alla rilevazione 2015 è inferiore al 75% delle classi campio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sellaDiTesto 6"/>
          <p:cNvSpPr/>
          <p:nvPr/>
        </p:nvSpPr>
        <p:spPr>
          <a:xfrm>
            <a:off x="857160" y="9716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TAL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sellaDiTesto 9"/>
          <p:cNvSpPr/>
          <p:nvPr/>
        </p:nvSpPr>
        <p:spPr>
          <a:xfrm>
            <a:off x="5929200" y="9604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MATE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"/>
          <p:cNvPicPr/>
          <p:nvPr/>
        </p:nvPicPr>
        <p:blipFill>
          <a:blip r:embed="rId3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984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Calibri"/>
                <a:ea typeface="ＭＳ Ｐゴシック"/>
              </a:rPr>
              <a:t>Distribuzione dei punteggi nelle prove Invalsi 2015  </a:t>
            </a:r>
            <a:br>
              <a:rPr sz="2400"/>
            </a:br>
            <a:r>
              <a:rPr b="1" lang="it-IT" sz="2400" spc="-1" strike="noStrike">
                <a:solidFill>
                  <a:srgbClr val="006699"/>
                </a:solidFill>
                <a:latin typeface="Calibri"/>
                <a:ea typeface="ＭＳ Ｐゴシック"/>
              </a:rPr>
              <a:t>Scuola secondaria di II gr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985680" y="1071720"/>
            <a:ext cx="7172640" cy="4714560"/>
          </a:xfrm>
          <a:prstGeom prst="rect">
            <a:avLst/>
          </a:prstGeom>
          <a:ln w="0">
            <a:noFill/>
          </a:ln>
        </p:spPr>
      </p:pic>
      <p:sp>
        <p:nvSpPr>
          <p:cNvPr id="120" name="Rettangolo 5"/>
          <p:cNvSpPr/>
          <p:nvPr/>
        </p:nvSpPr>
        <p:spPr>
          <a:xfrm>
            <a:off x="5076720" y="1378080"/>
            <a:ext cx="189000" cy="345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"/>
          <p:cNvPicPr/>
          <p:nvPr/>
        </p:nvPicPr>
        <p:blipFill>
          <a:blip r:embed="rId2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984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Calibri"/>
                <a:ea typeface="ＭＳ Ｐゴシック"/>
              </a:rPr>
              <a:t>Distribuzione dei punteggi nelle prove Invalsi 2015  </a:t>
            </a:r>
            <a:br>
              <a:rPr sz="2400"/>
            </a:br>
            <a:r>
              <a:rPr b="1" lang="it-IT" sz="2400" spc="-1" strike="noStrike">
                <a:solidFill>
                  <a:srgbClr val="006699"/>
                </a:solidFill>
                <a:latin typeface="Calibri"/>
                <a:ea typeface="ＭＳ Ｐゴシック"/>
              </a:rPr>
              <a:t>Scuola secondaria di II gr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004760" y="1114560"/>
            <a:ext cx="7134480" cy="4628880"/>
          </a:xfrm>
          <a:prstGeom prst="rect">
            <a:avLst/>
          </a:prstGeom>
          <a:ln w="0">
            <a:noFill/>
          </a:ln>
        </p:spPr>
      </p:pic>
      <p:sp>
        <p:nvSpPr>
          <p:cNvPr id="124" name="Rettangolo 4"/>
          <p:cNvSpPr/>
          <p:nvPr/>
        </p:nvSpPr>
        <p:spPr>
          <a:xfrm>
            <a:off x="5048280" y="1378080"/>
            <a:ext cx="190440" cy="345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"/>
          <p:cNvPicPr/>
          <p:nvPr/>
        </p:nvPicPr>
        <p:blipFill>
          <a:blip r:embed="rId2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436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Calibri"/>
                <a:ea typeface="ＭＳ Ｐゴシック"/>
              </a:rPr>
              <a:t>Distribuzione dei punteggi nelle prove Invalsi 2015  </a:t>
            </a:r>
            <a:br>
              <a:rPr sz="2400"/>
            </a:br>
            <a:r>
              <a:rPr b="1" lang="it-IT" sz="2400" spc="-1" strike="noStrike">
                <a:solidFill>
                  <a:srgbClr val="006699"/>
                </a:solidFill>
                <a:latin typeface="Calibri"/>
                <a:ea typeface="ＭＳ Ｐゴシック"/>
              </a:rPr>
              <a:t>ITALI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009800" y="1100160"/>
            <a:ext cx="7124400" cy="465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"/>
          <p:cNvPicPr/>
          <p:nvPr/>
        </p:nvPicPr>
        <p:blipFill>
          <a:blip r:embed="rId2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Calibri"/>
              </a:rPr>
              <a:t>Intervento della Direzione Gener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4200" y="1428840"/>
            <a:ext cx="8786880" cy="5214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Per questo la DG promuove la lettura dei risultati delle prove da parte delle singole scuole pe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Stimolare i processi di autovalutazione e miglioramento che sono alla base del Sistema Nazionale di Valutazione (SN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Recuperare la partecipazione degli stude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Restituire credibilità e fiducia nella valutazione nazionale degli apprendimenti, anche come occasione di autovalutazione delle pratiche didatt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Favorire una attenta e proficua riflessione sulla programmazione didattica curricul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Calibri"/>
              </a:rPr>
              <a:t>Intervento della Direzione Gener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4200" y="1928520"/>
            <a:ext cx="8786880" cy="3500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La DG inoltre intende supportare le scuole predisponendo specifiche iniziative di formazione ed attività di ricerca/azione da parte dei docenti di Italiano e Matematica e delle classi coinvolte dalla rilevazione invalsi (II e V primaria, II secondaria di II grad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468360" y="2205000"/>
            <a:ext cx="8136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684360" y="404640"/>
            <a:ext cx="79912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684360" y="256536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6699"/>
                </a:solidFill>
                <a:latin typeface="Calibri"/>
              </a:rPr>
              <a:t>2. Finalità e obiettivi dell’intervento della Direzione e di questo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Destinatar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14200" y="1428480"/>
            <a:ext cx="8786880" cy="5257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I Dirigenti Scolast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I Docenti referenti per la valutazione e/o responsabili delle prove INVAL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I Docenti di Italiano e Matematica delle classi coinvolte dalla rilev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Gli alunni, specialmente negli Istituti secondari di II gr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I genitori, a livello inform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12"/>
          <p:cNvSpPr/>
          <p:nvPr/>
        </p:nvSpPr>
        <p:spPr>
          <a:xfrm>
            <a:off x="3071880" y="3568680"/>
            <a:ext cx="3152880" cy="6426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anuela.botta@invalsi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tefania.pozio@invalsi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928800"/>
            <a:ext cx="8429400" cy="2357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Calibri"/>
              </a:rPr>
              <a:t>Le slide contengono, tra le altre cose, materiale prodotto da:</a:t>
            </a:r>
            <a:br>
              <a:rPr sz="3600"/>
            </a:br>
            <a:r>
              <a:rPr b="1" lang="it-IT" sz="3600" spc="-1" strike="noStrike">
                <a:solidFill>
                  <a:srgbClr val="002060"/>
                </a:solidFill>
                <a:latin typeface="Calibri"/>
              </a:rPr>
              <a:t>Emanuela Botta e Stefania Pozio</a:t>
            </a:r>
            <a:br>
              <a:rPr sz="3600"/>
            </a:b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collaboratrici INVAL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2" descr="http://www.invalsi.it/invalsi/documenti/logo_vincitore.jpg"/>
          <p:cNvPicPr/>
          <p:nvPr/>
        </p:nvPicPr>
        <p:blipFill>
          <a:blip r:embed="rId3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Partn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14200" y="1428480"/>
            <a:ext cx="8786880" cy="5257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</a:rPr>
              <a:t>USR Lazio che ha organizza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2060"/>
                </a:solidFill>
                <a:latin typeface="Calibri"/>
              </a:rPr>
              <a:t>conferenze di servizio rivolte a tutte le scuole in cui sono state illustrate ai Dirigenti Scolastici le modalità di lettura e di interpretazione dei dati e il loro utilizzo per lo sviluppo del Piano di Miglioramen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</a:rPr>
              <a:t>Comitato Tecnico Regionale, nominato dal D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</a:rPr>
              <a:t>Scuole Polo, individuate tramite candidatu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</a:rPr>
              <a:t>Nuclei di Coordinamento presso le Scuole Polo per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2060"/>
                </a:solidFill>
                <a:latin typeface="Calibri"/>
              </a:rPr>
              <a:t>organizzare incontri formativi a livello territori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2060"/>
                </a:solidFill>
                <a:latin typeface="Calibri"/>
              </a:rPr>
              <a:t>individuare esperti da affiancare ai docenti tutor nelle attività laboratorial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Partn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14200" y="1428480"/>
            <a:ext cx="8786880" cy="5257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Gli 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Istituti “polo” hanno designato due referenti, rispettivamente per l’Italiano e la Matematica, </a:t>
            </a: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quali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figure di riferimento per gli altri Istituti di pertinenza territoriale che, a loro volta, hanno individuato 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due docenti </a:t>
            </a:r>
            <a:r>
              <a:rPr b="1" i="1" lang="it-IT" sz="3200" spc="-1" strike="noStrike">
                <a:solidFill>
                  <a:srgbClr val="002060"/>
                </a:solidFill>
                <a:latin typeface="Calibri"/>
              </a:rPr>
              <a:t>tutor </a:t>
            </a: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(Italiano e Matematica), per la partecipazione agli incontri di formazione presso la Scuola “polo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I docenti tutor svolgeranno attività di 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diffusione delle buone pratiche</a:t>
            </a: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 all’interno dei propri Istituti, coordinando le attività di ricerca/azione che l’USR Lazio chiede di organizzare nelle scu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Partn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4200" y="1643040"/>
            <a:ext cx="8786880" cy="4929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I gruppi di lavoro disciplinari organizzati presso ogni Istituto sono chiamati a svolgere le seguenti attività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Analisi delle Prove INVALSI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Analisi del costrutto delle prove per la rilevazione degli apprendime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Analisi del processo di costruzione delle pr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Realizzazione di unità di Apprendimento secondo una didattica per competen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Costruzione di prove di valutazione per competen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468360" y="2205000"/>
            <a:ext cx="8136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684360" y="404640"/>
            <a:ext cx="79912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84360" y="256536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6699"/>
                </a:solidFill>
                <a:latin typeface="Calibri"/>
              </a:rPr>
              <a:t>3. Le attività di rilevazione e di testing a livello nazionale e interna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68360" y="2205000"/>
            <a:ext cx="8136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684360" y="404640"/>
            <a:ext cx="79912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684360" y="2565360"/>
            <a:ext cx="806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6699"/>
                </a:solidFill>
                <a:latin typeface="Calibri"/>
              </a:rPr>
              <a:t>Il contributo dell’OCSE P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01760" y="1785960"/>
            <a:ext cx="8313480" cy="48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4280" anchor="t">
            <a:spAutoFit/>
          </a:bodyPr>
          <a:p>
            <a:pPr marL="365040" indent="-3650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r" pos="771192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6699"/>
                </a:solidFill>
                <a:latin typeface="Calibri"/>
              </a:rPr>
              <a:t>Indagini internazionali: </a:t>
            </a:r>
            <a:r>
              <a:rPr b="1" i="1" lang="it-IT" sz="3000" spc="-1" strike="noStrike" u="sng">
                <a:solidFill>
                  <a:srgbClr val="006699"/>
                </a:solidFill>
                <a:uFillTx/>
                <a:latin typeface="Calibri"/>
              </a:rPr>
              <a:t>di sist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749"/>
              </a:spcBef>
              <a:buClr>
                <a:srgbClr val="ff9933"/>
              </a:buClr>
              <a:buFont typeface="Wingdings" charset="2"/>
              <a:buChar char=""/>
              <a:tabLst>
                <a:tab algn="r" pos="771192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offrono dati sulle prestazioni degli studenti comparabili a livello inter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749"/>
              </a:spcBef>
              <a:buClr>
                <a:srgbClr val="ff9933"/>
              </a:buClr>
              <a:buFont typeface="Wingdings" charset="2"/>
              <a:buChar char=""/>
              <a:tabLst>
                <a:tab algn="r" pos="771192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permettono di individuare punti di forza e di debolezza del proprio sistema scola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749"/>
              </a:spcBef>
              <a:buClr>
                <a:srgbClr val="ff9933"/>
              </a:buClr>
              <a:buFont typeface="Wingdings" charset="2"/>
              <a:buChar char=""/>
              <a:tabLst>
                <a:tab algn="r" pos="771192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ricercano fattori antecedenti e correlati del profitto scolastico (e in che misura operano nello stesso modo in diversi contesti)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Arial"/>
              <a:buChar char="•"/>
              <a:tabLst>
                <a:tab algn="r" pos="771192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162080" y="500040"/>
            <a:ext cx="705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Calibri"/>
              </a:rPr>
              <a:t>Indagini internazionali e nazionali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Calibri"/>
              </a:rPr>
              <a:t>obiettivi diver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714240" y="58428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Indagini internazionali e nazionali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obiettivi diver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sellaDiTesto 7"/>
          <p:cNvSpPr/>
          <p:nvPr/>
        </p:nvSpPr>
        <p:spPr>
          <a:xfrm>
            <a:off x="285840" y="2214720"/>
            <a:ext cx="8532720" cy="31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r" pos="771192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6699"/>
                </a:solidFill>
                <a:latin typeface="Calibri"/>
              </a:rPr>
              <a:t>Indagini nazionali: </a:t>
            </a:r>
            <a:r>
              <a:rPr b="1" i="1" lang="it-IT" sz="3000" spc="-1" strike="noStrike" u="sng">
                <a:solidFill>
                  <a:srgbClr val="006699"/>
                </a:solidFill>
                <a:uFillTx/>
                <a:latin typeface="Calibri"/>
              </a:rPr>
              <a:t>dal sistema alle singole scu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"/>
              <a:tabLst>
                <a:tab algn="r" pos="771192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accertano i livelli di apprendimento degli studenti italiani in italiano e in matema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"/>
              <a:tabLst>
                <a:tab algn="r" pos="771192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offrono dati comparabili a livello nazionale, regionale e a livello di singola scuola e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ctr">
              <a:lnSpc>
                <a:spcPct val="100000"/>
              </a:lnSpc>
              <a:tabLst>
                <a:tab algn="l" pos="0"/>
                <a:tab algn="r" pos="771192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Grafico 5" descr=""/>
          <p:cNvPicPr/>
          <p:nvPr/>
        </p:nvPicPr>
        <p:blipFill>
          <a:blip r:embed="rId1"/>
          <a:stretch/>
        </p:blipFill>
        <p:spPr>
          <a:xfrm>
            <a:off x="2114640" y="1768320"/>
            <a:ext cx="6505560" cy="415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214200" y="1857240"/>
          <a:ext cx="1916280" cy="3895920"/>
        </p:xfrm>
        <a:graphic>
          <a:graphicData uri="http://schemas.openxmlformats.org/drawingml/2006/table">
            <a:tbl>
              <a:tblPr/>
              <a:tblGrid>
                <a:gridCol w="957240"/>
                <a:gridCol w="479520"/>
                <a:gridCol w="479520"/>
              </a:tblGrid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g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 </a:t>
                      </a: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.S.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v. Aut. Tr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ne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riuli-Venezia Giu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mbard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v. Aut. Bolza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milia-Romag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iemo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ar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sc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mb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alle D'Aos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igu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ug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bruzz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Laz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ff0000"/>
                          </a:solidFill>
                          <a:latin typeface="Calibri"/>
                          <a:ea typeface="ＭＳ Ｐゴシック"/>
                        </a:rPr>
                        <a:t>4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ff0000"/>
                          </a:solidFill>
                          <a:latin typeface="Calibri"/>
                          <a:ea typeface="ＭＳ Ｐゴシック"/>
                        </a:rPr>
                        <a:t>6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li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asilic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ardeg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mp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ici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lab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ta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talia grade 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dia Oc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CasellaDiTesto 5"/>
          <p:cNvSpPr/>
          <p:nvPr/>
        </p:nvSpPr>
        <p:spPr>
          <a:xfrm>
            <a:off x="571680" y="56844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Calibri"/>
              </a:rPr>
              <a:t>PISA 2012 - Risultati in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ttangolo 6"/>
          <p:cNvSpPr/>
          <p:nvPr/>
        </p:nvSpPr>
        <p:spPr>
          <a:xfrm rot="2640000">
            <a:off x="6325920" y="4804920"/>
            <a:ext cx="21744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ttangolo 7"/>
          <p:cNvSpPr/>
          <p:nvPr/>
        </p:nvSpPr>
        <p:spPr>
          <a:xfrm rot="2640000">
            <a:off x="8138880" y="4791240"/>
            <a:ext cx="215640" cy="502920"/>
          </a:xfrm>
          <a:prstGeom prst="rect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2" descr="http://www.invalsi.it/invalsi/documenti/logo_vincitore.jpg"/>
          <p:cNvPicPr/>
          <p:nvPr/>
        </p:nvPicPr>
        <p:blipFill>
          <a:blip r:embed="rId2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8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CasellaDiTesto 5"/>
          <p:cNvSpPr/>
          <p:nvPr/>
        </p:nvSpPr>
        <p:spPr>
          <a:xfrm>
            <a:off x="571680" y="558720"/>
            <a:ext cx="77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PISA 2012 – In che classe sia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Immagine 1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814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http://www.invalsi.it/invalsi/documenti/logo_vincitore.jpg"/>
          <p:cNvPicPr/>
          <p:nvPr/>
        </p:nvPicPr>
        <p:blipFill>
          <a:blip r:embed="rId2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8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68360" y="2205000"/>
            <a:ext cx="8136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2"/>
          <p:cNvSpPr/>
          <p:nvPr/>
        </p:nvSpPr>
        <p:spPr>
          <a:xfrm>
            <a:off x="684360" y="404640"/>
            <a:ext cx="79912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684360" y="2565360"/>
            <a:ext cx="806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6699"/>
                </a:solidFill>
                <a:latin typeface="Calibri"/>
              </a:rPr>
              <a:t>Il contributo delle prove Inval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360" y="1268280"/>
            <a:ext cx="8246880" cy="5160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</a:rPr>
              <a:t>Presentazione dei livelli raggiunti nelle prove INVALSI dalle scuole del Lazio e confronto con il dato nazion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</a:rPr>
              <a:t>Finalità e obiettivi del percorso di formazio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</a:rPr>
              <a:t>Le attività di rilevazione e di testing a livello nazionale e internazion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</a:rPr>
              <a:t>Introduzione alla didattica per competenze e  ad una progettazione d'istituto coerente con i quadri di riferimento delle Indicazioni Nazionali e delle prove INVALS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Di cosa parler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785880" y="642960"/>
            <a:ext cx="75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Calibri"/>
              </a:rPr>
              <a:t>La finalità delle rilevazioni INVAL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ttangolo 7"/>
          <p:cNvSpPr/>
          <p:nvPr/>
        </p:nvSpPr>
        <p:spPr>
          <a:xfrm>
            <a:off x="558720" y="1695600"/>
            <a:ext cx="7993080" cy="4697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Calibri"/>
              </a:rPr>
              <a:t>Fornire alle scuole uno strumento di confronto a livello nazionale, a livello di macro-area, a livello reg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Calibri"/>
              </a:rPr>
              <a:t>Fornire alle scuole uno strumento di confronto con scuole che hanno un background socio-economico e culturale(ESCS) simile (valore aggiunto della scuo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Calibri"/>
              </a:rPr>
              <a:t>Fornire alle singole scuole uno strumento di diagnosi per migliorare il proprio lavoro e individuare le aree di eccellenza e quelle problematiche nelle discipline oggetto della rilevazio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Calibri"/>
              </a:rPr>
              <a:t>Sono una FOTOGRAFIA dei LIVELLI MEDI sugli apprendimenti in Lettura e Matema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Scopo delle misur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13840" y="2071440"/>
            <a:ext cx="8729640" cy="450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Calibri"/>
              </a:rPr>
              <a:t>Le prove INVALSI hanno lo scopo principale di </a:t>
            </a:r>
            <a:r>
              <a:rPr b="1" lang="it-IT" sz="2600" spc="-1" strike="noStrike">
                <a:solidFill>
                  <a:srgbClr val="002060"/>
                </a:solidFill>
                <a:latin typeface="Calibri"/>
              </a:rPr>
              <a:t>misurare</a:t>
            </a:r>
            <a:r>
              <a:rPr b="0" lang="it-IT" sz="2600" spc="-1" strike="noStrike">
                <a:solidFill>
                  <a:srgbClr val="002060"/>
                </a:solidFill>
                <a:latin typeface="Calibri"/>
              </a:rPr>
              <a:t> i livelli di apprendimento raggiunti dagli studenti italiani relativamente ad alcuni aspetti di base di due ambiti fondamentali: la comprensione della lettura e la matematic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Calibri"/>
              </a:rPr>
              <a:t>La letteratura dimostra che la conoscenza in alcune discipline fondamentali (lettura, matematica) ha un ruolo di primo piano nell’</a:t>
            </a:r>
            <a:r>
              <a:rPr b="1" lang="it-IT" sz="2600" spc="-1" strike="noStrike">
                <a:solidFill>
                  <a:srgbClr val="002060"/>
                </a:solidFill>
                <a:latin typeface="Calibri"/>
              </a:rPr>
              <a:t>avanzamento individuale e dell’intera societ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Calibri"/>
              </a:rPr>
              <a:t>Gli ambiti oggetto di misurazione delle prove INVALSI </a:t>
            </a:r>
            <a:r>
              <a:rPr b="1" lang="it-IT" sz="2600" spc="-1" strike="noStrike">
                <a:solidFill>
                  <a:srgbClr val="002060"/>
                </a:solidFill>
                <a:latin typeface="Calibri"/>
              </a:rPr>
              <a:t>non esauriscono di certo i saperi e le competenze prodotte dalla scuol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6703920" y="2006640"/>
            <a:ext cx="144000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5072040" y="1357200"/>
            <a:ext cx="2235240" cy="500040"/>
          </a:xfrm>
          <a:prstGeom prst="wedgeRoundRectCallout">
            <a:avLst>
              <a:gd name="adj1" fmla="val 40898"/>
              <a:gd name="adj2" fmla="val 11391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NON Valutare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53680" cy="7277040"/>
          </a:xfrm>
          <a:prstGeom prst="rect">
            <a:avLst/>
          </a:prstGeom>
          <a:ln w="0">
            <a:noFill/>
          </a:ln>
        </p:spPr>
      </p:pic>
      <p:sp>
        <p:nvSpPr>
          <p:cNvPr id="208" name="CasellaDiTesto 9"/>
          <p:cNvSpPr/>
          <p:nvPr/>
        </p:nvSpPr>
        <p:spPr>
          <a:xfrm>
            <a:off x="684360" y="189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Arial"/>
              </a:rPr>
              <a:t>Il </a:t>
            </a:r>
            <a:r>
              <a:rPr b="1" i="1" lang="it-IT" sz="2800" spc="-1" strike="noStrike">
                <a:solidFill>
                  <a:srgbClr val="336699"/>
                </a:solidFill>
                <a:latin typeface="Arial"/>
              </a:rPr>
              <a:t>ch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5640" y="41760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Quadro teorico di riferi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85480" y="1428840"/>
            <a:ext cx="8643960" cy="5114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È connesso alle Linee Guida e alle Indicazioni Nazion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Definisce gli ambiti, i processi cognitivi e i compiti oggetto di rilevazione, </a:t>
            </a:r>
            <a:r>
              <a:rPr b="1" i="1" lang="it-IT" sz="2400" spc="-1" strike="noStrike">
                <a:solidFill>
                  <a:srgbClr val="002060"/>
                </a:solidFill>
                <a:latin typeface="Calibri"/>
              </a:rPr>
              <a:t>delimitando quindi il campo rispetto al quale sono costruite le prove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Permette di </a:t>
            </a:r>
            <a:r>
              <a:rPr b="1" i="1" lang="it-IT" sz="2400" spc="-1" strike="noStrike">
                <a:solidFill>
                  <a:srgbClr val="002060"/>
                </a:solidFill>
                <a:latin typeface="Calibri"/>
              </a:rPr>
              <a:t>definire e circoscrivere il valore informativo delle prove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 che in base ad esso vengono costruite, chiarendone la portata e i limi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Costituisce il </a:t>
            </a:r>
            <a:r>
              <a:rPr b="1" i="1" lang="it-IT" sz="2400" spc="-1" strike="noStrike">
                <a:solidFill>
                  <a:srgbClr val="002060"/>
                </a:solidFill>
                <a:latin typeface="Calibri"/>
              </a:rPr>
              <a:t>documento fondamentale</a:t>
            </a:r>
            <a:r>
              <a:rPr b="0" i="1" lang="it-IT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per gli </a:t>
            </a:r>
            <a:r>
              <a:rPr b="1" i="1" lang="it-IT" sz="2400" spc="-1" strike="noStrike">
                <a:solidFill>
                  <a:srgbClr val="002060"/>
                </a:solidFill>
                <a:latin typeface="Calibri"/>
              </a:rPr>
              <a:t>autori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 delle prove, per gli </a:t>
            </a:r>
            <a:r>
              <a:rPr b="1" i="1" lang="it-IT" sz="2400" spc="-1" strike="noStrike">
                <a:solidFill>
                  <a:srgbClr val="002060"/>
                </a:solidFill>
                <a:latin typeface="Calibri"/>
              </a:rPr>
              <a:t>esperti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 che ne curano la revisione, per i </a:t>
            </a:r>
            <a:r>
              <a:rPr b="1" i="1" lang="it-IT" sz="2400" spc="-1" strike="noStrike">
                <a:solidFill>
                  <a:srgbClr val="002060"/>
                </a:solidFill>
                <a:latin typeface="Calibri"/>
              </a:rPr>
              <a:t>docenti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 che sono chiamati a interpretare i risultati dei loro allievi e per i cosiddetti </a:t>
            </a:r>
            <a:r>
              <a:rPr b="1" i="1" lang="it-IT" sz="2400" spc="-1" strike="noStrike">
                <a:solidFill>
                  <a:srgbClr val="002060"/>
                </a:solidFill>
                <a:latin typeface="Calibri"/>
              </a:rPr>
              <a:t>stakeholder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 che utilizzano i risultati delle rilevazioni standardizzate nazionali per valutare i livelli di apprendimento garantiti dal sistema educativo nel suo comples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Calibri"/>
              </a:rPr>
              <a:t>Potenzialità delle prove Inval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197000"/>
            <a:ext cx="9144000" cy="5446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Rispetto al “contratto didattico” che si definisce tra docenti e alunni, i test standardizzati sono impersonali e possono essere usati per l’</a:t>
            </a:r>
            <a:r>
              <a:rPr b="1" i="1" lang="it-IT" sz="3000" spc="-1" strike="noStrike">
                <a:solidFill>
                  <a:srgbClr val="000000"/>
                </a:solidFill>
                <a:latin typeface="Calibri"/>
              </a:rPr>
              <a:t>autovalutazion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esplicitando agli studenti i nuclei e/o i processi a cui determinati quesiti fanno riferimento i docenti permettono loro di </a:t>
            </a:r>
            <a:r>
              <a:rPr b="1" i="1" lang="it-IT" sz="2600" spc="-1" strike="noStrike">
                <a:solidFill>
                  <a:srgbClr val="000000"/>
                </a:solidFill>
                <a:latin typeface="Calibri"/>
              </a:rPr>
              <a:t>comprendere quali siano i loro punti deboli e i loro punti di forza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, di diventare consapevoli della loro preparazione, ma soprattutto del lavoro da farsi (processi di natura metacognitiva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esplorando uno o più nuclei fra quelli trattati da INVALSI, l'insegnante può cogliere l'occasione per ricomporre conoscenze pregresse e magari aprire la strada per nuov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1"/>
          <p:cNvGrpSpPr/>
          <p:nvPr/>
        </p:nvGrpSpPr>
        <p:grpSpPr>
          <a:xfrm>
            <a:off x="1199160" y="2214720"/>
            <a:ext cx="7227360" cy="3727800"/>
            <a:chOff x="1199160" y="2214720"/>
            <a:chExt cx="7227360" cy="3727800"/>
          </a:xfrm>
        </p:grpSpPr>
        <p:sp>
          <p:nvSpPr>
            <p:cNvPr id="218" name="Text Box 6"/>
            <p:cNvSpPr/>
            <p:nvPr/>
          </p:nvSpPr>
          <p:spPr>
            <a:xfrm>
              <a:off x="4165920" y="221472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CasellaDiTesto 14"/>
            <p:cNvSpPr/>
            <p:nvPr/>
          </p:nvSpPr>
          <p:spPr>
            <a:xfrm>
              <a:off x="1428840" y="3654360"/>
              <a:ext cx="2232000" cy="64260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2060"/>
                  </a:solidFill>
                  <a:latin typeface="Arial"/>
                </a:rPr>
                <a:t>Percorso di autovalut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CasellaDiTesto 15"/>
            <p:cNvSpPr/>
            <p:nvPr/>
          </p:nvSpPr>
          <p:spPr>
            <a:xfrm>
              <a:off x="5821560" y="3654360"/>
              <a:ext cx="2376360" cy="91692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2060"/>
                  </a:solidFill>
                  <a:latin typeface="Arial"/>
                </a:rPr>
                <a:t>Potenziamento e miglioramento dell</a:t>
              </a:r>
              <a:r>
                <a:rPr b="1" lang="ja-JP" sz="1800" spc="-1" strike="noStrike">
                  <a:solidFill>
                    <a:srgbClr val="002060"/>
                  </a:solidFill>
                  <a:latin typeface="Arial"/>
                  <a:ea typeface="ＭＳ Ｐゴシック"/>
                </a:rPr>
                <a:t>’</a:t>
              </a:r>
              <a:r>
                <a:rPr b="1" lang="it-IT" sz="1800" spc="-1" strike="noStrike">
                  <a:solidFill>
                    <a:srgbClr val="002060"/>
                  </a:solidFill>
                  <a:latin typeface="Arial"/>
                  <a:ea typeface="ＭＳ Ｐゴシック"/>
                </a:rPr>
                <a:t>azione didat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CasellaDiTesto 18"/>
            <p:cNvSpPr/>
            <p:nvPr/>
          </p:nvSpPr>
          <p:spPr>
            <a:xfrm>
              <a:off x="3013200" y="5238720"/>
              <a:ext cx="2881440" cy="703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istituto e singola clas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CasellaDiTesto 19"/>
            <p:cNvSpPr/>
            <p:nvPr/>
          </p:nvSpPr>
          <p:spPr>
            <a:xfrm>
              <a:off x="3660840" y="2214720"/>
              <a:ext cx="2303640" cy="36828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2060"/>
                  </a:solidFill>
                  <a:latin typeface="Arial"/>
                </a:rPr>
                <a:t>DATI INVAL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3" name="AutoShape 17"/>
            <p:cNvCxnSpPr>
              <a:stCxn id="222" idx="1"/>
              <a:endCxn id="219" idx="0"/>
            </p:cNvCxnSpPr>
            <p:nvPr/>
          </p:nvCxnSpPr>
          <p:spPr>
            <a:xfrm flipV="1" rot="10800000">
              <a:off x="2544120" y="2397600"/>
              <a:ext cx="1116720" cy="1256040"/>
            </a:xfrm>
            <a:prstGeom prst="bentConnector2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</p:cxnSp>
        <p:cxnSp>
          <p:nvCxnSpPr>
            <p:cNvPr id="224" name="AutoShape 18"/>
            <p:cNvCxnSpPr>
              <a:stCxn id="222" idx="3"/>
              <a:endCxn id="220" idx="0"/>
            </p:cNvCxnSpPr>
            <p:nvPr/>
          </p:nvCxnSpPr>
          <p:spPr>
            <a:xfrm>
              <a:off x="5964480" y="2398320"/>
              <a:ext cx="1046880" cy="1256040"/>
            </a:xfrm>
            <a:prstGeom prst="bentConnector2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</p:cxnSp>
        <p:cxnSp>
          <p:nvCxnSpPr>
            <p:cNvPr id="225" name="AutoShape 19"/>
            <p:cNvCxnSpPr>
              <a:stCxn id="219" idx="1"/>
              <a:endCxn id="221" idx="1"/>
            </p:cNvCxnSpPr>
            <p:nvPr/>
          </p:nvCxnSpPr>
          <p:spPr>
            <a:xfrm flipH="1" flipV="1" rot="10800000">
              <a:off x="1427760" y="3974760"/>
              <a:ext cx="1585080" cy="1624320"/>
            </a:xfrm>
            <a:prstGeom prst="bentConnector3">
              <a:avLst>
                <a:gd name="adj1" fmla="val -14425"/>
              </a:avLst>
            </a:prstGeom>
            <a:ln w="38160">
              <a:solidFill>
                <a:srgbClr val="ff99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26" name="AutoShape 20"/>
            <p:cNvCxnSpPr>
              <a:stCxn id="220" idx="3"/>
              <a:endCxn id="221" idx="3"/>
            </p:cNvCxnSpPr>
            <p:nvPr/>
          </p:nvCxnSpPr>
          <p:spPr>
            <a:xfrm flipH="1">
              <a:off x="5894280" y="4116240"/>
              <a:ext cx="2304000" cy="1483200"/>
            </a:xfrm>
            <a:prstGeom prst="bentConnector3">
              <a:avLst>
                <a:gd name="adj1" fmla="val -9923"/>
              </a:avLst>
            </a:prstGeom>
            <a:ln cap="rnd" w="3816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227" name="Text Box 9"/>
          <p:cNvSpPr/>
          <p:nvPr/>
        </p:nvSpPr>
        <p:spPr>
          <a:xfrm>
            <a:off x="1406520" y="720720"/>
            <a:ext cx="598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Calibri"/>
              </a:rPr>
              <a:t>Uso dei dati INVAL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egnaposto numero diapositiva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85E6-B9D5-487E-AC0D-C67CC486C2A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egnaposto numero diapositiva 3"/>
          <p:cNvSpPr/>
          <p:nvPr/>
        </p:nvSpPr>
        <p:spPr>
          <a:xfrm>
            <a:off x="8534520" y="5734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fld id="{7614217D-CA0C-491B-A329-C47F7BB1AED0}" type="slidenum">
              <a:rPr b="0" lang="it-IT" sz="1000" spc="-1" strike="noStrike">
                <a:solidFill>
                  <a:srgbClr val="a7a399"/>
                </a:solidFill>
                <a:latin typeface="Calibri"/>
                <a:ea typeface="Microsoft Ya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741240" y="1665360"/>
            <a:ext cx="77184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"/>
          <p:cNvSpPr/>
          <p:nvPr/>
        </p:nvSpPr>
        <p:spPr>
          <a:xfrm>
            <a:off x="755640" y="2122560"/>
            <a:ext cx="7632720" cy="3176640"/>
          </a:xfrm>
          <a:prstGeom prst="pie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19320"/>
                <a:tab algn="l" pos="1627200"/>
                <a:tab algn="l" pos="2035080"/>
                <a:tab algn="l" pos="2441520"/>
                <a:tab algn="l" pos="2849400"/>
                <a:tab algn="l" pos="3257640"/>
                <a:tab algn="l" pos="3664080"/>
                <a:tab algn="l" pos="4071960"/>
                <a:tab algn="l" pos="4479840"/>
                <a:tab algn="l" pos="4886280"/>
                <a:tab algn="l" pos="529416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Calibri"/>
                <a:ea typeface="Microsoft YaHei"/>
              </a:rPr>
              <a:t>Per miglior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19320"/>
                <a:tab algn="l" pos="1627200"/>
                <a:tab algn="l" pos="2035080"/>
                <a:tab algn="l" pos="2441520"/>
                <a:tab algn="l" pos="2849400"/>
                <a:tab algn="l" pos="3257640"/>
                <a:tab algn="l" pos="3664080"/>
                <a:tab algn="l" pos="4071960"/>
                <a:tab algn="l" pos="4479840"/>
                <a:tab algn="l" pos="4886280"/>
                <a:tab algn="l" pos="529416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Calibri"/>
                <a:ea typeface="Microsoft YaHei"/>
              </a:rPr>
              <a:t>occorre conoscere la situazio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19320"/>
                <a:tab algn="l" pos="1627200"/>
                <a:tab algn="l" pos="2035080"/>
                <a:tab algn="l" pos="2441520"/>
                <a:tab algn="l" pos="2849400"/>
                <a:tab algn="l" pos="3257640"/>
                <a:tab algn="l" pos="3664080"/>
                <a:tab algn="l" pos="4071960"/>
                <a:tab algn="l" pos="4479840"/>
                <a:tab algn="l" pos="4886280"/>
                <a:tab algn="l" pos="529416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Calibri"/>
                <a:ea typeface="Microsoft YaHei"/>
              </a:rPr>
              <a:t>“</a:t>
            </a:r>
            <a:r>
              <a:rPr b="1" lang="it-IT" sz="3600" spc="-1" strike="noStrike">
                <a:solidFill>
                  <a:srgbClr val="002060"/>
                </a:solidFill>
                <a:latin typeface="Calibri"/>
                <a:ea typeface="Microsoft YaHei"/>
              </a:rPr>
              <a:t>valuta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428920" y="928800"/>
            <a:ext cx="40496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19320"/>
                <a:tab algn="l" pos="1627200"/>
                <a:tab algn="l" pos="2035080"/>
                <a:tab algn="l" pos="2441520"/>
                <a:tab algn="l" pos="2849400"/>
                <a:tab algn="l" pos="3257640"/>
                <a:tab algn="l" pos="3664080"/>
                <a:tab algn="l" pos="4071960"/>
                <a:tab algn="l" pos="4479840"/>
                <a:tab algn="l" pos="4886280"/>
                <a:tab algn="l" pos="529416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Calibri"/>
                <a:ea typeface="Microsoft YaHei"/>
              </a:rPr>
              <a:t>Idee chi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asellaDiTesto 5"/>
          <p:cNvSpPr/>
          <p:nvPr/>
        </p:nvSpPr>
        <p:spPr>
          <a:xfrm>
            <a:off x="1893960" y="1927080"/>
            <a:ext cx="1176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it-IT" sz="6500" spc="-1" strike="noStrike">
                <a:solidFill>
                  <a:srgbClr val="4ea5d8"/>
                </a:solidFill>
                <a:latin typeface="Britannic Bold"/>
                <a:ea typeface="Microsoft YaHei"/>
              </a:rPr>
              <a:t>1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numero diapositiva 3"/>
          <p:cNvSpPr/>
          <p:nvPr/>
        </p:nvSpPr>
        <p:spPr>
          <a:xfrm>
            <a:off x="8534520" y="5734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fld id="{091B8BDC-6786-409E-AE17-F8EFA885CAE9}" type="slidenum">
              <a:rPr b="0" lang="it-IT" sz="1000" spc="-1" strike="noStrike">
                <a:solidFill>
                  <a:srgbClr val="a7a399"/>
                </a:solidFill>
                <a:latin typeface="Calibri"/>
                <a:ea typeface="Microsoft Ya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"/>
          <p:cNvSpPr/>
          <p:nvPr/>
        </p:nvSpPr>
        <p:spPr>
          <a:xfrm>
            <a:off x="0" y="2500200"/>
            <a:ext cx="9144000" cy="3700440"/>
          </a:xfrm>
          <a:prstGeom prst="pie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19320"/>
                <a:tab algn="l" pos="1627200"/>
                <a:tab algn="l" pos="2035080"/>
                <a:tab algn="l" pos="2441520"/>
                <a:tab algn="l" pos="2849400"/>
                <a:tab algn="l" pos="3257640"/>
                <a:tab algn="l" pos="3664080"/>
                <a:tab algn="l" pos="4071960"/>
                <a:tab algn="l" pos="4479840"/>
                <a:tab algn="l" pos="4886280"/>
                <a:tab algn="l" pos="529416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  <a:ea typeface="Microsoft YaHei"/>
              </a:rPr>
              <a:t>La preoccupazione non deve ess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19320"/>
                <a:tab algn="l" pos="1627200"/>
                <a:tab algn="l" pos="2035080"/>
                <a:tab algn="l" pos="2441520"/>
                <a:tab algn="l" pos="2849400"/>
                <a:tab algn="l" pos="3257640"/>
                <a:tab algn="l" pos="3664080"/>
                <a:tab algn="l" pos="4071960"/>
                <a:tab algn="l" pos="4479840"/>
                <a:tab algn="l" pos="4886280"/>
                <a:tab algn="l" pos="529416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1" i="1" lang="it-IT" sz="2800" spc="-1" strike="noStrike" u="sng">
                <a:solidFill>
                  <a:srgbClr val="002060"/>
                </a:solidFill>
                <a:uFillTx/>
                <a:latin typeface="Calibri"/>
                <a:ea typeface="Microsoft YaHei"/>
              </a:rPr>
              <a:t>Come preparare i ragazzi alle prove Inval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19320"/>
                <a:tab algn="l" pos="1627200"/>
                <a:tab algn="l" pos="2035080"/>
                <a:tab algn="l" pos="2441520"/>
                <a:tab algn="l" pos="2849400"/>
                <a:tab algn="l" pos="3257640"/>
                <a:tab algn="l" pos="3664080"/>
                <a:tab algn="l" pos="4071960"/>
                <a:tab algn="l" pos="4479840"/>
                <a:tab algn="l" pos="4886280"/>
                <a:tab algn="l" pos="529416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  <a:ea typeface="Microsoft YaHei"/>
              </a:rPr>
              <a:t>qua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19320"/>
                <a:tab algn="l" pos="1627200"/>
                <a:tab algn="l" pos="2035080"/>
                <a:tab algn="l" pos="2441520"/>
                <a:tab algn="l" pos="2849400"/>
                <a:tab algn="l" pos="3257640"/>
                <a:tab algn="l" pos="3664080"/>
                <a:tab algn="l" pos="4071960"/>
                <a:tab algn="l" pos="4479840"/>
                <a:tab algn="l" pos="4886280"/>
                <a:tab algn="l" pos="529416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1" i="1" lang="it-IT" sz="2800" spc="-1" strike="noStrike" u="sng">
                <a:solidFill>
                  <a:srgbClr val="002060"/>
                </a:solidFill>
                <a:uFillTx/>
                <a:latin typeface="Calibri"/>
                <a:ea typeface="Microsoft YaHei"/>
              </a:rPr>
              <a:t>Come usare le prove Invalsi per migliorare i risultati del nostro lav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2500200" y="858960"/>
            <a:ext cx="42926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19320"/>
                <a:tab algn="l" pos="1627200"/>
                <a:tab algn="l" pos="2035080"/>
                <a:tab algn="l" pos="2441520"/>
                <a:tab algn="l" pos="2849400"/>
                <a:tab algn="l" pos="3257640"/>
                <a:tab algn="l" pos="3664080"/>
                <a:tab algn="l" pos="4071960"/>
                <a:tab algn="l" pos="4479840"/>
                <a:tab algn="l" pos="4886280"/>
                <a:tab algn="l" pos="529416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Calibri"/>
                <a:ea typeface="Microsoft YaHei"/>
              </a:rPr>
              <a:t>Idee chi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ttangolo 5"/>
          <p:cNvSpPr/>
          <p:nvPr/>
        </p:nvSpPr>
        <p:spPr>
          <a:xfrm>
            <a:off x="1067400" y="2844720"/>
            <a:ext cx="638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it-IT" sz="6500" spc="-1" strike="noStrike">
                <a:solidFill>
                  <a:srgbClr val="4ea5d8"/>
                </a:solidFill>
                <a:latin typeface="Britannic Bold"/>
                <a:ea typeface="Microsoft YaHei"/>
              </a:rPr>
              <a:t>2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"/>
          <p:cNvSpPr/>
          <p:nvPr/>
        </p:nvSpPr>
        <p:spPr>
          <a:xfrm>
            <a:off x="504720" y="785880"/>
            <a:ext cx="8064720" cy="92376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4840"/>
                <a:tab algn="l" pos="5292720"/>
                <a:tab algn="l" pos="5700600"/>
                <a:tab algn="l" pos="6107040"/>
                <a:tab algn="l" pos="6515280"/>
                <a:tab algn="l" pos="6923160"/>
                <a:tab algn="l" pos="7331040"/>
                <a:tab algn="l" pos="7737480"/>
                <a:tab algn="l" pos="8145360"/>
                <a:tab algn="l" pos="8501040"/>
                <a:tab algn="l" pos="8906040"/>
                <a:tab algn="l" pos="9310680"/>
                <a:tab algn="l" pos="9715680"/>
                <a:tab algn="l" pos="10120320"/>
                <a:tab algn="l" pos="10524960"/>
                <a:tab algn="l" pos="10929960"/>
              </a:tabLst>
            </a:pPr>
            <a:r>
              <a:rPr b="1" lang="it-IT" sz="3300" spc="-1" strike="noStrike">
                <a:solidFill>
                  <a:srgbClr val="002060"/>
                </a:solidFill>
                <a:latin typeface="Calibri"/>
                <a:ea typeface="Microsoft YaHei"/>
              </a:rPr>
              <a:t>Un capovolgimento di prospettiva</a:t>
            </a:r>
            <a:r>
              <a:rPr b="1" lang="it-IT" sz="2900" spc="-1" strike="noStrike">
                <a:solidFill>
                  <a:srgbClr val="002060"/>
                </a:solidFill>
                <a:latin typeface="Calibri"/>
                <a:ea typeface="Microsoft YaHe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57120" y="2475000"/>
            <a:ext cx="4616640" cy="146376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19320"/>
                <a:tab algn="l" pos="1627200"/>
                <a:tab algn="l" pos="2035080"/>
                <a:tab algn="l" pos="2441520"/>
                <a:tab algn="l" pos="2849400"/>
                <a:tab algn="l" pos="3257640"/>
                <a:tab algn="l" pos="3664080"/>
                <a:tab algn="l" pos="4071960"/>
                <a:tab algn="l" pos="4479840"/>
                <a:tab algn="l" pos="4886280"/>
                <a:tab algn="l" pos="529416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1" lang="it-IT" sz="2900" spc="-1" strike="noStrike">
                <a:solidFill>
                  <a:srgbClr val="002060"/>
                </a:solidFill>
                <a:latin typeface="Calibri"/>
                <a:ea typeface="Microsoft YaHei"/>
              </a:rPr>
              <a:t>Cosa devo fa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19320"/>
                <a:tab algn="l" pos="1627200"/>
                <a:tab algn="l" pos="2035080"/>
                <a:tab algn="l" pos="2441520"/>
                <a:tab algn="l" pos="2849400"/>
                <a:tab algn="l" pos="3257640"/>
                <a:tab algn="l" pos="3664080"/>
                <a:tab algn="l" pos="4071960"/>
                <a:tab algn="l" pos="4479840"/>
                <a:tab algn="l" pos="4886280"/>
                <a:tab algn="l" pos="529416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1" lang="it-IT" sz="2900" spc="-1" strike="noStrike">
                <a:solidFill>
                  <a:srgbClr val="002060"/>
                </a:solidFill>
                <a:latin typeface="Calibri"/>
                <a:ea typeface="Microsoft YaHei"/>
              </a:rPr>
              <a:t>per preparare le Prove Invals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"/>
          <p:cNvSpPr/>
          <p:nvPr/>
        </p:nvSpPr>
        <p:spPr>
          <a:xfrm>
            <a:off x="5364000" y="2317680"/>
            <a:ext cx="3386160" cy="1728720"/>
          </a:xfrm>
          <a:prstGeom prst="pie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4840"/>
                <a:tab algn="l" pos="5292720"/>
                <a:tab algn="l" pos="5700600"/>
                <a:tab algn="l" pos="6107040"/>
                <a:tab algn="l" pos="6515280"/>
                <a:tab algn="l" pos="6923160"/>
                <a:tab algn="l" pos="7331040"/>
                <a:tab algn="l" pos="7737480"/>
                <a:tab algn="l" pos="8145360"/>
                <a:tab algn="l" pos="8501040"/>
                <a:tab algn="l" pos="8906040"/>
                <a:tab algn="l" pos="9310680"/>
                <a:tab algn="l" pos="9715680"/>
                <a:tab algn="l" pos="10120320"/>
                <a:tab algn="l" pos="10524960"/>
                <a:tab algn="l" pos="1092996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Calibri"/>
                <a:ea typeface="Microsoft YaHei"/>
              </a:rPr>
              <a:t>il mio percorso di inseg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4840"/>
                <a:tab algn="l" pos="5292720"/>
                <a:tab algn="l" pos="5700600"/>
                <a:tab algn="l" pos="6107040"/>
                <a:tab algn="l" pos="6515280"/>
                <a:tab algn="l" pos="6923160"/>
                <a:tab algn="l" pos="7331040"/>
                <a:tab algn="l" pos="7737480"/>
                <a:tab algn="l" pos="8145360"/>
                <a:tab algn="l" pos="8501040"/>
                <a:tab algn="l" pos="8906040"/>
                <a:tab algn="l" pos="9310680"/>
                <a:tab algn="l" pos="9715680"/>
                <a:tab algn="l" pos="10120320"/>
                <a:tab algn="l" pos="10524960"/>
                <a:tab algn="l" pos="1092996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Calibri"/>
                <a:ea typeface="Microsoft YaHei"/>
              </a:rPr>
              <a:t>piegato al fine del miglior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4840"/>
                <a:tab algn="l" pos="5292720"/>
                <a:tab algn="l" pos="5700600"/>
                <a:tab algn="l" pos="6107040"/>
                <a:tab algn="l" pos="6515280"/>
                <a:tab algn="l" pos="6923160"/>
                <a:tab algn="l" pos="7331040"/>
                <a:tab algn="l" pos="7737480"/>
                <a:tab algn="l" pos="8145360"/>
                <a:tab algn="l" pos="8501040"/>
                <a:tab algn="l" pos="8906040"/>
                <a:tab algn="l" pos="9310680"/>
                <a:tab algn="l" pos="9715680"/>
                <a:tab algn="l" pos="10120320"/>
                <a:tab algn="l" pos="10524960"/>
                <a:tab algn="l" pos="1092996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Calibri"/>
                <a:ea typeface="Microsoft YaHei"/>
              </a:rPr>
              <a:t>nelle prove </a:t>
            </a:r>
            <a:r>
              <a:rPr b="1" lang="it-IT" sz="1800" spc="-1" strike="noStrike">
                <a:solidFill>
                  <a:srgbClr val="002060"/>
                </a:solidFill>
                <a:latin typeface="Calibri"/>
                <a:ea typeface="Microsoft YaHei"/>
              </a:rPr>
              <a:t>Inval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asellaDiTesto 5"/>
          <p:cNvSpPr/>
          <p:nvPr/>
        </p:nvSpPr>
        <p:spPr>
          <a:xfrm>
            <a:off x="552600" y="1792440"/>
            <a:ext cx="2689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it-IT" sz="3300" spc="-1" strike="noStrike">
                <a:solidFill>
                  <a:srgbClr val="002060"/>
                </a:solidFill>
                <a:latin typeface="Calibri"/>
                <a:ea typeface="Microsoft YaHei"/>
              </a:rPr>
              <a:t>Passare da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asellaDiTesto 6"/>
          <p:cNvSpPr/>
          <p:nvPr/>
        </p:nvSpPr>
        <p:spPr>
          <a:xfrm>
            <a:off x="652320" y="4078440"/>
            <a:ext cx="750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it-IT" sz="3300" spc="-1" strike="noStrike">
                <a:solidFill>
                  <a:srgbClr val="002060"/>
                </a:solidFill>
                <a:latin typeface="Calibri"/>
                <a:ea typeface="Microsoft YaHei"/>
              </a:rPr>
              <a:t>a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"/>
          <p:cNvSpPr/>
          <p:nvPr/>
        </p:nvSpPr>
        <p:spPr>
          <a:xfrm>
            <a:off x="457200" y="4795920"/>
            <a:ext cx="4616280" cy="146376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19320"/>
                <a:tab algn="l" pos="1627200"/>
                <a:tab algn="l" pos="2035080"/>
                <a:tab algn="l" pos="2441520"/>
                <a:tab algn="l" pos="2849400"/>
                <a:tab algn="l" pos="3257640"/>
                <a:tab algn="l" pos="3664080"/>
                <a:tab algn="l" pos="4071960"/>
                <a:tab algn="l" pos="4479840"/>
                <a:tab algn="l" pos="4886280"/>
                <a:tab algn="l" pos="5294160"/>
                <a:tab algn="l" pos="5700600"/>
                <a:tab algn="l" pos="6108840"/>
                <a:tab algn="l" pos="6516720"/>
                <a:tab algn="l" pos="6923160"/>
                <a:tab algn="l" pos="7331040"/>
                <a:tab algn="l" pos="7738920"/>
                <a:tab algn="l" pos="814536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r>
              <a:rPr b="1" lang="it-IT" sz="2900" spc="-1" strike="noStrike">
                <a:solidFill>
                  <a:srgbClr val="002060"/>
                </a:solidFill>
                <a:latin typeface="Calibri"/>
                <a:ea typeface="Microsoft YaHei"/>
              </a:rPr>
              <a:t>Come posso usare le Prove Invals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"/>
          <p:cNvSpPr/>
          <p:nvPr/>
        </p:nvSpPr>
        <p:spPr>
          <a:xfrm>
            <a:off x="5508720" y="4478400"/>
            <a:ext cx="3240000" cy="2016000"/>
          </a:xfrm>
          <a:prstGeom prst="pie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4840"/>
                <a:tab algn="l" pos="5292720"/>
                <a:tab algn="l" pos="5700600"/>
                <a:tab algn="l" pos="6107040"/>
                <a:tab algn="l" pos="6515280"/>
                <a:tab algn="l" pos="6923160"/>
                <a:tab algn="l" pos="7331040"/>
                <a:tab algn="l" pos="7737480"/>
                <a:tab algn="l" pos="8145360"/>
                <a:tab algn="l" pos="8501040"/>
                <a:tab algn="l" pos="8906040"/>
                <a:tab algn="l" pos="9310680"/>
                <a:tab algn="l" pos="9715680"/>
                <a:tab algn="l" pos="10120320"/>
                <a:tab algn="l" pos="10524960"/>
                <a:tab algn="l" pos="1092996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le prove Invalsi utilizz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4840"/>
                <a:tab algn="l" pos="5292720"/>
                <a:tab algn="l" pos="5700600"/>
                <a:tab algn="l" pos="6107040"/>
                <a:tab algn="l" pos="6515280"/>
                <a:tab algn="l" pos="6923160"/>
                <a:tab algn="l" pos="7331040"/>
                <a:tab algn="l" pos="7737480"/>
                <a:tab algn="l" pos="8145360"/>
                <a:tab algn="l" pos="8501040"/>
                <a:tab algn="l" pos="8906040"/>
                <a:tab algn="l" pos="9310680"/>
                <a:tab algn="l" pos="9715680"/>
                <a:tab algn="l" pos="10120320"/>
                <a:tab algn="l" pos="10524960"/>
                <a:tab algn="l" pos="1092996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per il miglioramento del mio percorso di insegn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68360" y="2205000"/>
            <a:ext cx="8136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2"/>
          <p:cNvSpPr/>
          <p:nvPr/>
        </p:nvSpPr>
        <p:spPr>
          <a:xfrm>
            <a:off x="684360" y="404640"/>
            <a:ext cx="79912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684360" y="2565360"/>
            <a:ext cx="8064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6699"/>
                </a:solidFill>
                <a:latin typeface="Calibri"/>
              </a:rPr>
              <a:t>4. Introduzione alla didattica per competenze e ad una progettazione di Istituto coerente con i quadri di riferimento delle Indicazioni Nazionali e delle prove INVAL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68360" y="2205000"/>
            <a:ext cx="8136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684360" y="404640"/>
            <a:ext cx="79912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684360" y="2565360"/>
            <a:ext cx="8064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6699"/>
                </a:solidFill>
                <a:latin typeface="Calibri"/>
              </a:rPr>
              <a:t>1. Presentazione dei livelli raggiunti nelle prove INVALSI dalle scuole del Lazio e confronto con il dato na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142920" y="2143080"/>
            <a:ext cx="87868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2"/>
          <p:cNvSpPr/>
          <p:nvPr/>
        </p:nvSpPr>
        <p:spPr>
          <a:xfrm>
            <a:off x="684360" y="404640"/>
            <a:ext cx="79912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84360" y="2565360"/>
            <a:ext cx="806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6699"/>
                </a:solidFill>
                <a:latin typeface="Calibri"/>
              </a:rPr>
              <a:t>Il concetto di compet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  <p:sp>
        <p:nvSpPr>
          <p:cNvPr id="265" name="Rettangolo 9"/>
          <p:cNvSpPr/>
          <p:nvPr/>
        </p:nvSpPr>
        <p:spPr>
          <a:xfrm>
            <a:off x="285840" y="350028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6699"/>
                </a:solidFill>
                <a:latin typeface="Calibri"/>
                <a:ea typeface="Arial"/>
              </a:rPr>
              <a:t>Conoscenze, abilità,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6699"/>
                </a:solidFill>
                <a:latin typeface="Calibri"/>
                <a:ea typeface="Arial"/>
              </a:rPr>
              <a:t>Le competenze chiave dell’Unione Europea e le competenze di cittadi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6699"/>
                </a:solidFill>
                <a:latin typeface="Calibri"/>
                <a:ea typeface="Arial"/>
              </a:rPr>
              <a:t>Le competenze disciplin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6699"/>
                </a:solidFill>
                <a:latin typeface="Calibri"/>
                <a:ea typeface="Arial"/>
              </a:rPr>
              <a:t>Progettare per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6699"/>
                </a:solidFill>
                <a:latin typeface="Calibri"/>
                <a:ea typeface="Arial"/>
              </a:rPr>
              <a:t>Il curricolo di Istit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E2D0-726C-42F9-9855-13B88B813FE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9680" y="331920"/>
            <a:ext cx="820908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2060"/>
                </a:solidFill>
                <a:latin typeface="Calibri"/>
              </a:rPr>
              <a:t>Conoscenze</a:t>
            </a:r>
            <a:br>
              <a:rPr sz="2000"/>
            </a:b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definizione CE-EQF 23 aprile 2008</a:t>
            </a:r>
            <a:br>
              <a:rPr sz="2000"/>
            </a:b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 (EQF = Quadro Europeo delle Qualifich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7120" y="2416320"/>
            <a:ext cx="8391600" cy="2798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Assimilazione di informazioni (fatti, principi, teorie e pratiche) relative ad uno specifico sett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Sono teoriche e pratich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213F-DF22-4F59-B600-1ADC2402775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6520" y="331560"/>
            <a:ext cx="8208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Abilità</a:t>
            </a: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2000"/>
            </a:b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definizione CE-EQF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600" y="1915920"/>
            <a:ext cx="7777080" cy="4537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Applicare le conoscenze e usare il </a:t>
            </a:r>
            <a:r>
              <a:rPr b="1" i="1" lang="it-IT" sz="3200" spc="-1" strike="noStrike">
                <a:solidFill>
                  <a:srgbClr val="002060"/>
                </a:solidFill>
                <a:latin typeface="Calibri"/>
              </a:rPr>
              <a:t>know how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 necessario per portare a termine compiti e risolvere problem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Sono cognitive (uso del pensiero logico, intuitivo e creativo) e pratiche (abilità manuale, uso di metodi, di materiali, di strument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E1AA-D39D-444F-83AF-DE7EEFCDF76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4520" y="356760"/>
            <a:ext cx="8209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Competenz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definizione CE-EQF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28760" y="1915920"/>
            <a:ext cx="8143920" cy="4537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La competenza è la comprovata capacità di usare conoscenze, abilità e capacità personali, sociali, metodologiche in situazioni di lavoro o di studio e nello sviluppo professionale e persona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Le competenze sono descritte in termini di responsabilità ed autono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1A26-863C-4D36-A12A-BDE6DC8A8D6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08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Competenze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2400"/>
            </a:b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definizione OCSE 2003/1</a:t>
            </a:r>
            <a:br>
              <a:rPr sz="2400"/>
            </a:b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(Progetto De.Se.Co. - </a:t>
            </a:r>
            <a:r>
              <a:rPr b="1" i="1" lang="en-US" sz="1800" spc="-1" strike="noStrike">
                <a:solidFill>
                  <a:srgbClr val="002060"/>
                </a:solidFill>
                <a:latin typeface="Calibri"/>
              </a:rPr>
              <a:t>Definition and Selection of Competencies</a:t>
            </a: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85880" y="1856880"/>
            <a:ext cx="8143920" cy="4357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La competenza è la capacità “fronteggiare efficacemente richieste e compiti complessi; comporta non solo il possesso di conoscenze e di abilità, ma anche l’uso di strategie e di routine necessarie per l’applicazione di tali conoscenze e abilità, nonché emozioni e atteggiamenti adeguati e un’efficace gestione di tali comportamen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CEA9-E557-4D90-A51B-EC09D8F9283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8232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Competenze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definizione OCSE 2003/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9680" y="2286000"/>
            <a:ext cx="7929720" cy="3000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Pertanto la nozione di competenza include componenti cognitive ma anche componenti motivazionali, etiche, sociali e relative ai comportamenti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FB82-0721-4F0F-86D2-65BA9B91D02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209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Competenze</a:t>
            </a:r>
            <a:br>
              <a:rPr sz="2400"/>
            </a:b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definizione OCSE 2003/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85840" y="1773360"/>
            <a:ext cx="8858160" cy="4441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2060"/>
                </a:solidFill>
                <a:latin typeface="Calibri"/>
              </a:rPr>
              <a:t>Mentre il concetto di </a:t>
            </a:r>
            <a:r>
              <a:rPr b="1" lang="it-IT" sz="2700" spc="-1" strike="noStrike">
                <a:solidFill>
                  <a:srgbClr val="0070c0"/>
                </a:solidFill>
                <a:latin typeface="Calibri"/>
              </a:rPr>
              <a:t>competenza</a:t>
            </a:r>
            <a:r>
              <a:rPr b="1" lang="it-IT" sz="2700" spc="-1" strike="noStrike">
                <a:solidFill>
                  <a:srgbClr val="002060"/>
                </a:solidFill>
                <a:latin typeface="Calibri"/>
              </a:rPr>
              <a:t> si riferisce alla capacità di far fronte a richieste di un elevato livello di complessità e comporta sistemi di azione complessi, il termine </a:t>
            </a:r>
            <a:r>
              <a:rPr b="1" lang="it-IT" sz="2700" spc="-1" strike="noStrike">
                <a:solidFill>
                  <a:srgbClr val="0070c0"/>
                </a:solidFill>
                <a:latin typeface="Calibri"/>
              </a:rPr>
              <a:t>conoscenze</a:t>
            </a:r>
            <a:r>
              <a:rPr b="1" lang="it-IT" sz="2700" spc="-1" strike="noStrike">
                <a:solidFill>
                  <a:srgbClr val="002060"/>
                </a:solidFill>
                <a:latin typeface="Calibri"/>
              </a:rPr>
              <a:t> è riferito a fatti o idee acquisiti attraverso lo studio, la ricerca, l’osservazione o l’esperienza e designa un insieme di informazioni che già sono state comprese. Il termine </a:t>
            </a:r>
            <a:r>
              <a:rPr b="1" lang="it-IT" sz="2700" spc="-1" strike="noStrike">
                <a:solidFill>
                  <a:srgbClr val="0070c0"/>
                </a:solidFill>
                <a:latin typeface="Calibri"/>
              </a:rPr>
              <a:t>abilità</a:t>
            </a:r>
            <a:r>
              <a:rPr b="1" lang="it-IT" sz="2700" spc="-1" strike="noStrike">
                <a:solidFill>
                  <a:srgbClr val="002060"/>
                </a:solidFill>
                <a:latin typeface="Calibri"/>
              </a:rPr>
              <a:t> viene usato per designare la capacità di utilizzare le proprie conoscenze in modo relativamente agevole per l’esecuzione di compiti semplici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4569-9425-4EFE-B377-2C99EBF1937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680" y="131400"/>
            <a:ext cx="8208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Competenze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2400"/>
            </a:b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(USR Lombard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572320" cy="4442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La </a:t>
            </a: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competenza</a:t>
            </a: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 è la capacità di applicare una conoscenza in un contesto dato, riconoscendone le specifiche caratteristiche e adottando comportamenti funzionali al conseguimento del risulta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2060"/>
                </a:solidFill>
                <a:latin typeface="Calibri"/>
              </a:rPr>
              <a:t>La competenza non esiste in sé, ma deve sempre essere situata in rapporto ad un problema particolare e all’interno di un contesto specifico di riferimento: </a:t>
            </a:r>
            <a:r>
              <a:rPr b="1" i="1" lang="it-IT" sz="2800" spc="-1" strike="noStrike">
                <a:solidFill>
                  <a:srgbClr val="002060"/>
                </a:solidFill>
                <a:latin typeface="Calibri"/>
              </a:rPr>
              <a:t>“non esiste competenza che non sia competenza in atto” </a:t>
            </a:r>
            <a:r>
              <a:rPr b="0" i="1" lang="it-IT" sz="2000" spc="-1" strike="noStrike">
                <a:solidFill>
                  <a:srgbClr val="002060"/>
                </a:solidFill>
                <a:latin typeface="Calibri"/>
              </a:rPr>
              <a:t>(Lucio Guast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0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56800" y="285840"/>
            <a:ext cx="75056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Competenza</a:t>
            </a:r>
            <a:br>
              <a:rPr sz="2400"/>
            </a:b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(Pellerey 200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71680" y="2285640"/>
            <a:ext cx="8215200" cy="3786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La competenza è la capacità di 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far fronte a un compito</a:t>
            </a: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, o a un insieme di compiti, riuscendo a mettere in moto e a 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orchestrare</a:t>
            </a: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 le proprie 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risorse interne</a:t>
            </a: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, cognitive, affettive e volitive, e a utilizzare quelle 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esterne</a:t>
            </a: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 disponibili in modo coerente e fecon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41B3-23C8-4AFB-8DCB-33B536941A4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ttangolo 19"/>
          <p:cNvSpPr/>
          <p:nvPr/>
        </p:nvSpPr>
        <p:spPr>
          <a:xfrm>
            <a:off x="539640" y="907920"/>
            <a:ext cx="8136000" cy="561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IL COSTRUTTO DELLA COMPETE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Group 3"/>
          <p:cNvGrpSpPr/>
          <p:nvPr/>
        </p:nvGrpSpPr>
        <p:grpSpPr>
          <a:xfrm>
            <a:off x="1500120" y="2683800"/>
            <a:ext cx="5545080" cy="3782520"/>
            <a:chOff x="1500120" y="2683800"/>
            <a:chExt cx="5545080" cy="3782520"/>
          </a:xfrm>
        </p:grpSpPr>
        <p:grpSp>
          <p:nvGrpSpPr>
            <p:cNvPr id="309" name="Group 4"/>
            <p:cNvGrpSpPr/>
            <p:nvPr/>
          </p:nvGrpSpPr>
          <p:grpSpPr>
            <a:xfrm>
              <a:off x="1500120" y="4076640"/>
              <a:ext cx="5545080" cy="2389680"/>
              <a:chOff x="1500120" y="4076640"/>
              <a:chExt cx="5545080" cy="2389680"/>
            </a:xfrm>
          </p:grpSpPr>
          <p:sp>
            <p:nvSpPr>
              <p:cNvPr id="310" name="Text Box 5"/>
              <p:cNvSpPr/>
              <p:nvPr/>
            </p:nvSpPr>
            <p:spPr>
              <a:xfrm>
                <a:off x="1500120" y="4076640"/>
                <a:ext cx="5545080" cy="214488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Group 6"/>
              <p:cNvGrpSpPr/>
              <p:nvPr/>
            </p:nvGrpSpPr>
            <p:grpSpPr>
              <a:xfrm>
                <a:off x="2592000" y="4130640"/>
                <a:ext cx="3924720" cy="2335680"/>
                <a:chOff x="2592000" y="4130640"/>
                <a:chExt cx="3924720" cy="2335680"/>
              </a:xfrm>
            </p:grpSpPr>
            <p:sp>
              <p:nvSpPr>
                <p:cNvPr id="312" name="WordArt 7"/>
                <p:cNvSpPr txBox="1"/>
                <p:nvPr/>
              </p:nvSpPr>
              <p:spPr>
                <a:xfrm>
                  <a:off x="2757600" y="4612680"/>
                  <a:ext cx="1137240" cy="428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>
                  <a:prstTxWarp prst="textSlantUp">
                    <a:avLst>
                      <a:gd name="adj" fmla="val 55556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MOTIVAZIONE</a:t>
                  </a:r>
                  <a:endParaRPr b="0" lang="en-US" sz="9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13" name="WordArt 8"/>
                <p:cNvSpPr txBox="1"/>
                <p:nvPr/>
              </p:nvSpPr>
              <p:spPr>
                <a:xfrm rot="556800">
                  <a:off x="2615040" y="5416560"/>
                  <a:ext cx="1735560" cy="428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>
                  <a:prstTxWarp prst="textSlantUp">
                    <a:avLst>
                      <a:gd name="adj" fmla="val 55556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CONSAPEVOLEZZA</a:t>
                  </a:r>
                  <a:endParaRPr b="0" lang="en-US" sz="9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14" name="WordArt 9"/>
                <p:cNvSpPr txBox="1"/>
                <p:nvPr/>
              </p:nvSpPr>
              <p:spPr>
                <a:xfrm rot="2305200">
                  <a:off x="4889880" y="5283000"/>
                  <a:ext cx="1353960" cy="855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>
                  <a:prstTxWarp prst="textSlantUp">
                    <a:avLst>
                      <a:gd name="adj" fmla="val 55556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 </a:t>
                  </a:r>
                  <a:r>
                    <a:rPr b="0" lang="en-US" sz="9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SENSIBILITA'</a:t>
                  </a:r>
                  <a:endParaRPr b="0" lang="en-US" sz="9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 </a:t>
                  </a:r>
                  <a:r>
                    <a:rPr b="0" lang="en-US" sz="9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AL CONTESTO</a:t>
                  </a:r>
                  <a:endParaRPr b="0" lang="en-US" sz="9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15" name="WordArt 10"/>
                <p:cNvSpPr txBox="1"/>
                <p:nvPr/>
              </p:nvSpPr>
              <p:spPr>
                <a:xfrm rot="892200">
                  <a:off x="3326400" y="5014800"/>
                  <a:ext cx="1489680" cy="428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>
                  <a:prstTxWarp prst="textSlantUp">
                    <a:avLst>
                      <a:gd name="adj" fmla="val 55556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RUOLO SOCIALE</a:t>
                  </a:r>
                  <a:endParaRPr b="0" lang="en-US" sz="9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16" name="WordArt 11"/>
                <p:cNvSpPr txBox="1"/>
                <p:nvPr/>
              </p:nvSpPr>
              <p:spPr>
                <a:xfrm rot="1768800">
                  <a:off x="4748040" y="4478760"/>
                  <a:ext cx="1653120" cy="904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>
                  <a:prstTxWarp prst="textSlantUp">
                    <a:avLst>
                      <a:gd name="adj" fmla="val 55556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   </a:t>
                  </a:r>
                  <a:r>
                    <a:rPr b="0" lang="en-US" sz="1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STRATEGIE</a:t>
                  </a:r>
                  <a:endParaRPr b="0" lang="en-US" sz="1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METAGOGNITIVE</a:t>
                  </a:r>
                  <a:endParaRPr b="0" lang="en-US" sz="1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17" name="WordArt 12"/>
                <p:cNvSpPr txBox="1"/>
                <p:nvPr/>
              </p:nvSpPr>
              <p:spPr>
                <a:xfrm rot="374400">
                  <a:off x="4037400" y="4210560"/>
                  <a:ext cx="867240" cy="4273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>
                  <a:prstTxWarp prst="textSlantUp">
                    <a:avLst>
                      <a:gd name="adj" fmla="val 55556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IMPEGNO</a:t>
                  </a:r>
                  <a:endParaRPr b="0" lang="en-US" sz="9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  <p:sp>
          <p:nvSpPr>
            <p:cNvPr id="318" name="WordArt 13"/>
            <p:cNvSpPr txBox="1"/>
            <p:nvPr/>
          </p:nvSpPr>
          <p:spPr>
            <a:xfrm>
              <a:off x="3186000" y="3154320"/>
              <a:ext cx="766800" cy="430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BILITA'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9" name="WordArt 14"/>
            <p:cNvSpPr txBox="1"/>
            <p:nvPr/>
          </p:nvSpPr>
          <p:spPr>
            <a:xfrm rot="2214000">
              <a:off x="4485960" y="3020760"/>
              <a:ext cx="1266840" cy="430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NOSCENZE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20" name="Freeform 15"/>
          <p:cNvSpPr/>
          <p:nvPr/>
        </p:nvSpPr>
        <p:spPr>
          <a:xfrm>
            <a:off x="1814400" y="1847880"/>
            <a:ext cx="5415120" cy="450684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6"/>
          <p:cNvSpPr/>
          <p:nvPr/>
        </p:nvSpPr>
        <p:spPr>
          <a:xfrm>
            <a:off x="1116000" y="21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Tahoma"/>
              </a:rPr>
              <a:t>L</a:t>
            </a:r>
            <a:r>
              <a:rPr b="1" lang="ja-JP" sz="18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’</a:t>
            </a:r>
            <a:r>
              <a:rPr b="1" lang="it-IT" sz="18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iceberg della competenza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7"/>
          <p:cNvSpPr/>
          <p:nvPr/>
        </p:nvSpPr>
        <p:spPr>
          <a:xfrm>
            <a:off x="5000760" y="1571760"/>
            <a:ext cx="2849400" cy="792000"/>
          </a:xfrm>
          <a:prstGeom prst="wedgeRectCallout">
            <a:avLst>
              <a:gd name="adj1" fmla="val -55064"/>
              <a:gd name="adj2" fmla="val 99898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Tahoma"/>
              </a:rPr>
              <a:t>Prestazioni osservabili del sogg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8"/>
          <p:cNvSpPr/>
          <p:nvPr/>
        </p:nvSpPr>
        <p:spPr>
          <a:xfrm>
            <a:off x="6986520" y="2925720"/>
            <a:ext cx="2014560" cy="3289320"/>
          </a:xfrm>
          <a:prstGeom prst="wedgeRoundRectCallout">
            <a:avLst>
              <a:gd name="adj1" fmla="val -82773"/>
              <a:gd name="adj2" fmla="val 9449"/>
              <a:gd name="adj3" fmla="val 16667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ahoma"/>
              </a:rPr>
              <a:t>Componente latente che richiede l</a:t>
            </a:r>
            <a:r>
              <a:rPr b="1" lang="ja-JP" sz="16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’</a:t>
            </a:r>
            <a:r>
              <a:rPr b="1" lang="it-IT" sz="16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esplorazione di dimensioni interiori connesse ai processi motivazional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volitiv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socioemo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9"/>
          <p:cNvSpPr/>
          <p:nvPr/>
        </p:nvSpPr>
        <p:spPr>
          <a:xfrm>
            <a:off x="900000" y="65502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Tahoma"/>
              </a:rPr>
              <a:t>* Castoldi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Il Rapporto nazionale Invalsi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840" y="1599840"/>
            <a:ext cx="8686800" cy="4971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Anticipazioni ai DD.GG. degli USR nel mese di luglio 2015 ad opera del Presidente e del Direttore di Ricerca con successiva pubblicazione dei risult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Restituzione alle scuole nel mese di ottob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Livello di partecipazione nel Lazio: primaria, superiore al 75%, con sostituzione di alcune classi; sec. di II grado, inferiore al 75% con limitata attendibilità e rappresentatività dei d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Le competenze chiave</a:t>
            </a:r>
            <a:br>
              <a:rPr sz="4400"/>
            </a:br>
            <a:r>
              <a:rPr b="1" lang="it-IT" sz="1800" spc="-1" strike="noStrike">
                <a:solidFill>
                  <a:srgbClr val="002060"/>
                </a:solidFill>
                <a:latin typeface="Calibri"/>
              </a:rPr>
              <a:t>Raccomandazione del Parlamento Europeo e del Consiglio adottata il 18 Dic. 2006</a:t>
            </a: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42600" y="1785600"/>
            <a:ext cx="8072280" cy="471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Comunicazione nella madreling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Comunicazione nelle lingue strani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Competenza matematica e competenze di base in scienza e tec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Competenza digi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Imparare ad impa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Competenze sociali e civ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Spirito di iniziativa e imprenditorial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Consapevolezza ed espressione cultur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1876-0E2D-4A6D-84B9-C881891FFC9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Competenze di cittadinanza</a:t>
            </a:r>
            <a:br>
              <a:rPr sz="2000"/>
            </a:br>
            <a:r>
              <a:rPr b="1" lang="it-IT" sz="1800" spc="-1" strike="noStrike">
                <a:solidFill>
                  <a:srgbClr val="002060"/>
                </a:solidFill>
                <a:latin typeface="Calibri"/>
              </a:rPr>
              <a:t>Regolamento sull’obbligo di istruzione (D.M. 22 agosto 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42600" y="2052360"/>
            <a:ext cx="8072280" cy="4305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Imparare ad impa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Progett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Comuni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Collaborare e partecip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Agire in modo autonomo e responsab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Risolvere probl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Individuare collegamenti e relazio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Acquisire ed interpretare l’inform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A3BE-BFA2-4D56-A18D-537AB00B45F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Competenze disciplinari</a:t>
            </a:r>
            <a:br>
              <a:rPr sz="2000"/>
            </a:br>
            <a:r>
              <a:rPr b="1" lang="it-IT" sz="1800" spc="-1" strike="noStrike">
                <a:solidFill>
                  <a:srgbClr val="002060"/>
                </a:solidFill>
                <a:latin typeface="Calibri"/>
              </a:rPr>
              <a:t>Indicazioni Nazionali e Linee guida</a:t>
            </a:r>
            <a:br>
              <a:rPr sz="1800"/>
            </a:br>
            <a:r>
              <a:rPr b="1" lang="it-IT" sz="1800" spc="-1" strike="noStrike">
                <a:solidFill>
                  <a:srgbClr val="002060"/>
                </a:solidFill>
                <a:latin typeface="Calibri"/>
              </a:rPr>
              <a:t>(esempio di curricolo verticale per una competenza in italian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2560" y="1500120"/>
            <a:ext cx="8929800" cy="5214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A conclusione della scuola dell’infanz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2060"/>
                </a:solidFill>
                <a:latin typeface="Calibri"/>
              </a:rPr>
              <a:t>Il bambino usa la lingua italiana, arricchisce e precisa il proprio lessico, comprende parole e discorsi, fa ipotesi sui significa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A conclusione della scuola primar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2060"/>
                </a:solidFill>
                <a:latin typeface="Calibri"/>
              </a:rPr>
              <a:t>Ascolta e comprende testi orali “diretti” o “trasmessi” dai media cogliendone il senso, le informazioni principali e lo scop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A conclusione della scuola sec. di I gr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2060"/>
                </a:solidFill>
                <a:latin typeface="Calibri"/>
              </a:rPr>
              <a:t>Ascolta e comprende testi di vario tipo “diretti” e “trasmessi” dai media, riconoscendone la fonte, il tema, le informazioni e la loro gerarchia, l’intenzione dell’emitt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663A-ED14-4AC5-8CA3-302DF98C58B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0040" y="304560"/>
            <a:ext cx="84297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Dimensioni della competen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egnaposto numero diapositiva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6C01-47C7-4531-A483-81801D3A3BD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Connettore 2 5"/>
          <p:cNvCxnSpPr/>
          <p:nvPr/>
        </p:nvCxnSpPr>
        <p:spPr>
          <a:xfrm flipV="1">
            <a:off x="4285080" y="3357360"/>
            <a:ext cx="1080" cy="1429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5" name="Connettore 2 7"/>
          <p:cNvCxnSpPr/>
          <p:nvPr/>
        </p:nvCxnSpPr>
        <p:spPr>
          <a:xfrm flipH="1">
            <a:off x="2785320" y="4786200"/>
            <a:ext cx="1500840" cy="572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6" name="Connettore 2 9"/>
          <p:cNvCxnSpPr/>
          <p:nvPr/>
        </p:nvCxnSpPr>
        <p:spPr>
          <a:xfrm>
            <a:off x="4286160" y="4785840"/>
            <a:ext cx="164376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7" name="Ovale 12"/>
          <p:cNvSpPr/>
          <p:nvPr/>
        </p:nvSpPr>
        <p:spPr>
          <a:xfrm>
            <a:off x="2643120" y="2143080"/>
            <a:ext cx="3286080" cy="114300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1 - Riflessività e metacogni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e 14"/>
          <p:cNvSpPr/>
          <p:nvPr/>
        </p:nvSpPr>
        <p:spPr>
          <a:xfrm>
            <a:off x="571680" y="4929120"/>
            <a:ext cx="2143080" cy="107172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3 - Azione</a:t>
            </a:r>
            <a:r>
              <a:rPr b="1" lang="it-IT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e 15"/>
          <p:cNvSpPr/>
          <p:nvPr/>
        </p:nvSpPr>
        <p:spPr>
          <a:xfrm>
            <a:off x="6000840" y="3929040"/>
            <a:ext cx="2857320" cy="17146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2 - Attivazione delle risorse disponi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0040" y="304920"/>
            <a:ext cx="84297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Si apprendono oper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egnaposto numero diapositiva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A8CE-D322-4C10-BCCC-40DB62FA451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3"/>
          <p:cNvSpPr/>
          <p:nvPr/>
        </p:nvSpPr>
        <p:spPr>
          <a:xfrm>
            <a:off x="447840" y="1143000"/>
            <a:ext cx="8243640" cy="5607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Possiamo dire che un soggetto ha appreso se compie operazioni differenti (nella sostanza, nelle modalità, nello “stile”, nei risultati, ...)</a:t>
            </a:r>
            <a:r>
              <a:rPr b="1" lang="it-IT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da quelle che compiva in passa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È questa la spia che permette di affermare che egli “è cambiato”: non possiamo accontentarci delle sue dichiarazioni, non possiamo valutare il suo stesso sistema di conoscenze (anche teoriche) fino a che non lo vediamo “all’oper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l </a:t>
            </a:r>
            <a:r>
              <a:rPr b="1" lang="it-IT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fine ultimo dei processi di apprendimento è l’operazione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: essa costituisce l’oggetto privilegiato dell’apprend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Con l’apprendimento, </a:t>
            </a:r>
            <a:r>
              <a:rPr b="1" lang="it-IT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l’operazione, inizialmente estranea al soggetto, entra nella sua struttura; ripetuta e verificata dal soggetto stesso sul piano dell’efficacia, diventa abilità (il soggetto è in grado di metterla in atto intenzionalmente, ogni volta che se ne presenti la necessità); finalizzata alla produzione di un risultato, diventa competen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Si apprendono operazioni, non informazio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57160" y="711000"/>
            <a:ext cx="80726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Essere centrati sulle competenze,</a:t>
            </a:r>
            <a:br>
              <a:rPr sz="4400"/>
            </a:b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oggi, vuol dir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00760" y="2500200"/>
            <a:ext cx="4000320" cy="41148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allestire </a:t>
            </a:r>
            <a:r>
              <a:rPr b="1" lang="it-IT" sz="3200" spc="-1" strike="noStrike" u="sng">
                <a:solidFill>
                  <a:srgbClr val="002060"/>
                </a:solidFill>
                <a:uFillTx/>
                <a:latin typeface="Calibri"/>
              </a:rPr>
              <a:t>situazioni di apprendimento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 nelle quali i soggetti possano vivere </a:t>
            </a:r>
            <a:r>
              <a:rPr b="1" lang="it-IT" sz="3200" spc="-1" strike="noStrike" u="sng">
                <a:solidFill>
                  <a:srgbClr val="002060"/>
                </a:solidFill>
                <a:uFillTx/>
                <a:latin typeface="Calibri"/>
              </a:rPr>
              <a:t>esperienze reali, complesse e globali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14200" y="2500200"/>
            <a:ext cx="4500720" cy="41148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2060"/>
                </a:solidFill>
                <a:uFillTx/>
                <a:latin typeface="Calibri"/>
              </a:rPr>
              <a:t>ripensare i modelli di progettazione possibili 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e individuare strumenti di valutazione molto diversi da quelli tradizion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egnaposto numero diapositiv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D864-FEDA-4A1B-BC78-A2846733D11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6628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Progettare per competen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13840" y="1909440"/>
            <a:ext cx="8643960" cy="487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Costruire situazioni problema autentiche</a:t>
            </a: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 in grado di stimolare la riorganizzazione delle risorse possedute dal sogget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presentate come </a:t>
            </a: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sfida ottim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richiamando la </a:t>
            </a: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sfera dei valo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con possibilità </a:t>
            </a: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risolutive aper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vicine all’esperienza </a:t>
            </a: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dell’alun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in grado di stimolare </a:t>
            </a: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l’autonomia e la collaborazione tra studenti e con i doce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BC37-7D99-4FB1-8719-BAB2392A553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Insegnamento e apprendimento:</a:t>
            </a:r>
            <a:br>
              <a:rPr sz="3200"/>
            </a:b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due ottiche dive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71120"/>
            <a:ext cx="8229600" cy="4829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7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Quando si imposta un’attività formativa, è necessario chiarire se il termine “formazione” è utilizzato a partire da un’</a:t>
            </a:r>
            <a:r>
              <a:rPr b="1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ottica</a:t>
            </a:r>
            <a:r>
              <a:rPr b="0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di insegnamento</a:t>
            </a:r>
            <a:r>
              <a:rPr b="0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o da un’</a:t>
            </a:r>
            <a:r>
              <a:rPr b="1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ottica di apprendimento</a:t>
            </a:r>
            <a:r>
              <a:rPr b="0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Dato per scontato </a:t>
            </a:r>
            <a:r>
              <a:rPr b="0" i="1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che i due versanti dell’attività formativa sono inseparabili, il risultato finale si presenta radicalmente diverso a seconda che si assuma </a:t>
            </a:r>
            <a:r>
              <a:rPr b="0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come </a:t>
            </a:r>
            <a:r>
              <a:rPr b="1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punto di osservazione</a:t>
            </a:r>
            <a:r>
              <a:rPr b="0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e come </a:t>
            </a:r>
            <a:r>
              <a:rPr b="1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criterio di progettazione</a:t>
            </a:r>
            <a:r>
              <a:rPr b="0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il </a:t>
            </a:r>
            <a:r>
              <a:rPr b="0" i="1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cesso di insegnamento </a:t>
            </a:r>
            <a:r>
              <a:rPr b="0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oppure il </a:t>
            </a:r>
            <a:r>
              <a:rPr b="0" i="1" lang="it-IT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cesso di apprendimen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CCDE-A27C-4551-83E2-1E329C74910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657216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Insegnamento e apprendimento:</a:t>
            </a:r>
            <a:br>
              <a:rPr sz="3200"/>
            </a:b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due ottiche a confro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5116-8FB4-4FB0-A866-FDDC59AF397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"/>
          <p:cNvSpPr/>
          <p:nvPr/>
        </p:nvSpPr>
        <p:spPr>
          <a:xfrm>
            <a:off x="449280" y="1231920"/>
            <a:ext cx="3875040" cy="15541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“</a:t>
            </a:r>
            <a:r>
              <a:rPr b="1" i="1" lang="it-IT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ato un repertorio di contenuti da trasmettere, qual è il modo più funzionale per trasmetterl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4800600" y="1231920"/>
            <a:ext cx="3875040" cy="1554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“</a:t>
            </a:r>
            <a:r>
              <a:rPr b="1" i="1" lang="it-IT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ate alcune competenze da far acquisire ad un soggetto (conoscenze da far utilizzare; abilità da far esercitare; comportamenti da far assumere) qual è il percorso che questi dovrà compiere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449280" y="5008680"/>
            <a:ext cx="3875040" cy="1778040"/>
          </a:xfrm>
          <a:prstGeom prst="foldedCorner">
            <a:avLst>
              <a:gd name="adj" fmla="val 12125"/>
            </a:avLst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Unità didattic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la prassi di segmentare un campo vasto d’informazione in campi limitati, facilmente esplorabili, sequenziati in maniera log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Didattic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modi per insegnare efficacemente, utilizzando strategie di comunicazione adegu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449280" y="2876400"/>
            <a:ext cx="3875040" cy="20354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hi </a:t>
            </a:r>
            <a:r>
              <a:rPr b="1" lang="it-IT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ogramm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insegnamen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one al centro del processo l’informazione e programma quasi esclusivamente le proprie operazioni, ritenendo che il “trasferimento d’informazione” e Io “studio” siano di per sé una garanzia di apprend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4786200" y="2873520"/>
            <a:ext cx="3875040" cy="20408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hi </a:t>
            </a:r>
            <a:r>
              <a:rPr b="1" lang="it-IT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ogett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pprendimen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one al centro del processo colui che deve apprendere, progetta gli stimoli da fornirgli, le operazioni da fargli compiere, le facilitazioni da mettergli a disposizione, le situazioni di test con cui fargli prendere coscienza della strada che ha compiu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3">
            <a:hlinkClick r:id="rId3" action="ppaction://hlinksldjump"/>
          </p:cNvPr>
          <p:cNvSpPr/>
          <p:nvPr/>
        </p:nvSpPr>
        <p:spPr>
          <a:xfrm>
            <a:off x="4803840" y="5008680"/>
            <a:ext cx="3875040" cy="1778040"/>
          </a:xfrm>
          <a:prstGeom prst="foldedCorner">
            <a:avLst>
              <a:gd name="adj" fmla="val 12125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Process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arantisce l’unità dell’apprendimento, costituita da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namismi della men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per penetrare all’intern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ell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cettualizzazioni formal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657216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Modello di interazione antropologica</a:t>
            </a:r>
            <a:br>
              <a:rPr sz="3200"/>
            </a:b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centrata sull’insegn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4B53-5AD2-4AA7-987E-F9EC92F47CA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2" descr="Duale"/>
          <p:cNvPicPr/>
          <p:nvPr/>
        </p:nvPicPr>
        <p:blipFill>
          <a:blip r:embed="rId3"/>
          <a:srcRect l="3801" t="34677" r="2183" b="21515"/>
          <a:stretch/>
        </p:blipFill>
        <p:spPr>
          <a:xfrm>
            <a:off x="430200" y="2205000"/>
            <a:ext cx="82692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888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Partecipazione alle prove Invalsi 2015  </a:t>
            </a:r>
            <a:br>
              <a:rPr sz="3200"/>
            </a:b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Scuola prima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14400" y="1652760"/>
            <a:ext cx="7257960" cy="4991040"/>
          </a:xfrm>
          <a:prstGeom prst="rect">
            <a:avLst/>
          </a:prstGeom>
          <a:ln w="0">
            <a:noFill/>
          </a:ln>
        </p:spPr>
      </p:pic>
      <p:sp>
        <p:nvSpPr>
          <p:cNvPr id="72" name="CasellaDiTesto 4"/>
          <p:cNvSpPr/>
          <p:nvPr/>
        </p:nvSpPr>
        <p:spPr>
          <a:xfrm>
            <a:off x="1912680" y="3333600"/>
            <a:ext cx="6987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75-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6"/>
          <p:cNvSpPr/>
          <p:nvPr/>
        </p:nvSpPr>
        <p:spPr>
          <a:xfrm>
            <a:off x="5441040" y="3284640"/>
            <a:ext cx="6987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50-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sellaDiTesto 7"/>
          <p:cNvSpPr/>
          <p:nvPr/>
        </p:nvSpPr>
        <p:spPr>
          <a:xfrm>
            <a:off x="3791880" y="3357720"/>
            <a:ext cx="76608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http://www.invalsi.it/invalsi/documenti/logo_vincitore.jpg"/>
          <p:cNvPicPr/>
          <p:nvPr/>
        </p:nvPicPr>
        <p:blipFill>
          <a:blip r:embed="rId2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657216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Modello di interazione antropologica</a:t>
            </a:r>
            <a:br>
              <a:rPr sz="3200"/>
            </a:b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centrata sull’apprendi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E67B-0E90-45FA-A37B-36B03F693A1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9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C:\Documenti\IF_ItaliaForma\LezioniCattolicaFormazione Permanente\LezioneValutazioneFormazione\Triangolare.jpg"/>
          <p:cNvPicPr/>
          <p:nvPr/>
        </p:nvPicPr>
        <p:blipFill>
          <a:blip r:embed="rId3"/>
          <a:srcRect l="7443" t="28001" r="6672" b="18545"/>
          <a:stretch/>
        </p:blipFill>
        <p:spPr>
          <a:xfrm>
            <a:off x="322200" y="1820880"/>
            <a:ext cx="84996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Unità di Apprendimento</a:t>
            </a:r>
            <a:br>
              <a:rPr sz="4400"/>
            </a:b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lavorare per compiti e prodot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42600" y="1766520"/>
            <a:ext cx="8072280" cy="4591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Individuazione di un apprendimento unit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che esplicita la/le competenza/e da promuov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e viene articolato in obiettivi formati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Da promuovere attraverso un compito di apprendimento unitario, collocato in situazione, che esita in un prodotto concreto e visib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6002-020E-450E-B520-CE097C5E17D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Approcci didattici</a:t>
            </a:r>
            <a:br>
              <a:rPr sz="4400"/>
            </a:b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orientati alla competen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785520" y="2286000"/>
            <a:ext cx="7543800" cy="3286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Didattica per compito e prodotto (UdA/situazioni autentich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Didattica per probl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Didattica per proget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Didattica laboratori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527E-1DCF-430C-BE11-44FDB7A0F7B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Didattica per problemi</a:t>
            </a:r>
            <a:br>
              <a:rPr sz="4400"/>
            </a:b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basata sull’individuazione e soluzione di problemi autenti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2B94-CD7C-48F6-8768-A65E9665441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ttangolo 6"/>
          <p:cNvSpPr/>
          <p:nvPr/>
        </p:nvSpPr>
        <p:spPr>
          <a:xfrm>
            <a:off x="642960" y="2000160"/>
            <a:ext cx="8001000" cy="435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alibri"/>
              </a:rPr>
              <a:t>F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Individuazione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Determinazione e definizione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Pianificazione della ricerca (ipotesi, obiettivi e valutazione delle risorse potenziali necessar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Ricerca di inform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Analisi critica delle inform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Sint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Verifica e validazione delle ipot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6628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Didattica per progetti</a:t>
            </a:r>
            <a:br>
              <a:rPr sz="4400"/>
            </a:b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basata sul coinvolgimento attivo degli alunni in un proget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0B42-2BCE-4D79-8E77-16360036A13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ttangolo 6"/>
          <p:cNvSpPr/>
          <p:nvPr/>
        </p:nvSpPr>
        <p:spPr>
          <a:xfrm>
            <a:off x="642960" y="2000160"/>
            <a:ext cx="8001000" cy="435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alibri"/>
              </a:rPr>
              <a:t>F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Identificazione di un bisogno condiviso e definizione del problema da affron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Prefigurazione del traguardo att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Stesura de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Definizione delle strategie e degli 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Definizione delle fasi di lav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Controllo e valutazione del lav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0040" y="4406760"/>
            <a:ext cx="8207280" cy="136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002060"/>
                </a:solidFill>
                <a:latin typeface="Calibri"/>
              </a:rPr>
              <a:t>IL CURRICOLO DI ISTITU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EED9-1A4A-4A37-918F-C87836A8E61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Dalle Indicazioni al Currico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00040" y="2000160"/>
            <a:ext cx="8215200" cy="450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Le Indicazioni costituiscono il quadro di riferimento per la progettazione curricolare affidata alle scu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Sono un testo aperto che le scuole sono chiamate ad assumere e a contestualizzare, 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elaborando specifiche scelte relative a contenuti, metodi, organizzazione e valutazione</a:t>
            </a: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, coerenti con i traguardi formati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7FAA-BFD0-4D4E-AF8B-B054DBC8AD1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Il Currico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71320" y="2285640"/>
            <a:ext cx="8001000" cy="3500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Il curricolo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quindi può essere inteso come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il percorso formativ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che la scuola definisce per i suoi allievi “elaborand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specifiche scelt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relative a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contenuti, metodi, organizzazione e valutazion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coerenti con i traguardi formativi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(delle Indicazioni)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9A52-A516-4738-9E4E-83C63BF2A8F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Il Currico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28760" y="2099880"/>
            <a:ext cx="8286480" cy="432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curricol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esplicita le scelt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della comunità scolastica e l’identità dell’Istitu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A partire dal curricolo, i docenti individuano le esperienze di apprendimento più efficaci, le scelte didattiche più significative, le strategie più idonee, con attenzione all’</a:t>
            </a:r>
            <a:r>
              <a:rPr b="0" i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integrazione fra le discipl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Un curricolo verticale, essenziale e progress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8F4E-1AB5-4165-A3D2-73ACE24A255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I traguar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956960"/>
            <a:ext cx="8229600" cy="39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traguardi costituiscon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criteri per la valutazione delle competenze attes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e son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prescrittivi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 scuole hann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la libertà e la responsabilità di scegliere l’itinerario più opportun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per consentire agli studenti il miglior conseguimento dei risult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F47C-DFDA-4881-891E-E70E4765FB1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Partecipazione alle prove Invalsi 2015  </a:t>
            </a:r>
            <a:br>
              <a:rPr sz="3200"/>
            </a:b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Scuola sec. di secondo gr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84360" y="1530360"/>
            <a:ext cx="7715160" cy="518472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4"/>
          <p:cNvSpPr/>
          <p:nvPr/>
        </p:nvSpPr>
        <p:spPr>
          <a:xfrm>
            <a:off x="4291920" y="5234040"/>
            <a:ext cx="76608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Z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sellaDiTesto 5"/>
          <p:cNvSpPr/>
          <p:nvPr/>
        </p:nvSpPr>
        <p:spPr>
          <a:xfrm>
            <a:off x="6110640" y="3071880"/>
            <a:ext cx="5724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5-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6"/>
          <p:cNvSpPr/>
          <p:nvPr/>
        </p:nvSpPr>
        <p:spPr>
          <a:xfrm>
            <a:off x="3778560" y="3079800"/>
            <a:ext cx="5724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0-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sellaDiTesto 7"/>
          <p:cNvSpPr/>
          <p:nvPr/>
        </p:nvSpPr>
        <p:spPr>
          <a:xfrm>
            <a:off x="1619280" y="3068640"/>
            <a:ext cx="57636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0-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http://www.invalsi.it/invalsi/documenti/logo_vincitore.jpg"/>
          <p:cNvPicPr/>
          <p:nvPr/>
        </p:nvPicPr>
        <p:blipFill>
          <a:blip r:embed="rId2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001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Gli obiettivi di apprendi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2243160"/>
            <a:ext cx="8229600" cy="354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Gli obiettivi di apprendimento individuano campi del sapere, conoscenze e abilità ritenuti indispensabili per raggiungere i traguardi delle competen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ono organizzati in nuclei tematici e definiti in relazione a periodi didattici lungh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egnaposto numero diapositiv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E1A7-C8CA-4A03-ADC6-1ECD57E2B8F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ATTIVITÀ PER I CORSISTI</a:t>
            </a:r>
            <a:br>
              <a:rPr sz="4400"/>
            </a:b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in vista dell’incontro success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00040" y="2457000"/>
            <a:ext cx="8229600" cy="3328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2060"/>
                </a:solidFill>
                <a:latin typeface="Calibri"/>
              </a:rPr>
              <a:t>Acquisire dati completi e fascicoli delle prove Invalsi delle singole scu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2060"/>
                </a:solidFill>
                <a:latin typeface="Calibri"/>
              </a:rPr>
              <a:t>Approfondire l’analisi dei Quadri di Riferimento Invalsi e delle Indicazioni Nazionali e Linee Gu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-144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45" name="Picture 2" descr=""/>
          <p:cNvPicPr/>
          <p:nvPr/>
        </p:nvPicPr>
        <p:blipFill>
          <a:blip r:embed="rId2"/>
          <a:stretch/>
        </p:blipFill>
        <p:spPr>
          <a:xfrm>
            <a:off x="0" y="-2052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1736640" y="4643280"/>
            <a:ext cx="626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terina.manco@gmail.co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Rettangolo 11" descr=""/>
          <p:cNvPicPr/>
          <p:nvPr/>
        </p:nvPicPr>
        <p:blipFill>
          <a:blip r:embed="rId2"/>
          <a:stretch/>
        </p:blipFill>
        <p:spPr>
          <a:xfrm rot="711600">
            <a:off x="1890720" y="2206800"/>
            <a:ext cx="5888160" cy="25477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http://www.invalsi.it/invalsi/documenti/logo_vincitore.jpg"/>
          <p:cNvPicPr/>
          <p:nvPr/>
        </p:nvPicPr>
        <p:blipFill>
          <a:blip r:embed="rId3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50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Calibri"/>
              </a:rPr>
              <a:t>I risultati delle prove Invalsi nel Laz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120" y="1599840"/>
            <a:ext cx="8400960" cy="490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L’analisi dei dati indica che i risultati degli apprendimenti conseguiti dagli studenti del Lazio sono inferiori a quelli ottenuti dagli studenti delle altre regioni del Centr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in modo più lieve per la classe V primaria (sia in Italiano che in Matemati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in modo più rilevante per le classi II della scuola secondaria di II grado denotando anche una progressiva flessione del punteggio medio nel periodo 2010-201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2" descr="http://www.invalsi.it/invalsi/documenti/logo_vincitore.jpg"/>
          <p:cNvPicPr/>
          <p:nvPr/>
        </p:nvPicPr>
        <p:blipFill>
          <a:blip r:embed="rId1"/>
          <a:stretch/>
        </p:blipFill>
        <p:spPr>
          <a:xfrm>
            <a:off x="8553600" y="19080"/>
            <a:ext cx="563400" cy="6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152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Calibri"/>
                <a:ea typeface="ＭＳ Ｐゴシック"/>
              </a:rPr>
              <a:t>Distribuzione dei punteggi nelle prove Invalsi 2015  </a:t>
            </a:r>
            <a:br>
              <a:rPr sz="2400"/>
            </a:br>
            <a:r>
              <a:rPr b="1" lang="it-IT" sz="2400" spc="-1" strike="noStrike">
                <a:solidFill>
                  <a:srgbClr val="006699"/>
                </a:solidFill>
                <a:latin typeface="Calibri"/>
                <a:ea typeface="ＭＳ Ｐゴシック"/>
              </a:rPr>
              <a:t>Scuola primaria -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572000" y="1886040"/>
            <a:ext cx="4229280" cy="477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285840" y="1928880"/>
            <a:ext cx="4303800" cy="4541760"/>
          </a:xfrm>
          <a:prstGeom prst="rect">
            <a:avLst/>
          </a:prstGeom>
          <a:ln w="0">
            <a:noFill/>
          </a:ln>
        </p:spPr>
      </p:pic>
      <p:sp>
        <p:nvSpPr>
          <p:cNvPr id="92" name="Rettangolo 7"/>
          <p:cNvSpPr/>
          <p:nvPr/>
        </p:nvSpPr>
        <p:spPr>
          <a:xfrm>
            <a:off x="214200" y="4214880"/>
            <a:ext cx="8425080" cy="14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sellaDiTesto 8"/>
          <p:cNvSpPr/>
          <p:nvPr/>
        </p:nvSpPr>
        <p:spPr>
          <a:xfrm>
            <a:off x="857160" y="1440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TAL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sellaDiTesto 9"/>
          <p:cNvSpPr/>
          <p:nvPr/>
        </p:nvSpPr>
        <p:spPr>
          <a:xfrm>
            <a:off x="5929200" y="14288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MATE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"/>
          <p:cNvPicPr/>
          <p:nvPr/>
        </p:nvPicPr>
        <p:blipFill>
          <a:blip r:embed="rId3"/>
          <a:stretch/>
        </p:blipFill>
        <p:spPr>
          <a:xfrm>
            <a:off x="8201160" y="0"/>
            <a:ext cx="9428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7T11:02:43Z</dcterms:created>
  <dc:creator>emanuela.botta</dc:creator>
  <dc:description/>
  <dc:language>en-US</dc:language>
  <cp:lastModifiedBy>Utente</cp:lastModifiedBy>
  <dcterms:modified xsi:type="dcterms:W3CDTF">2016-02-11T22:32:25Z</dcterms:modified>
  <cp:revision>187</cp:revision>
  <dc:subject/>
  <dc:title>USR LAZIO COMPETENZE E INVALSI</dc:title>
</cp:coreProperties>
</file>